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B51-2850-40DA-A20F-A7D7D16F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080-FAF1-4BAB-9435-406BD49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208-ECB6-4D07-ABFC-852B87F8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8B8-842A-4BB8-967F-A35D602A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C975-F205-4121-B1A1-9F06AC70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ED3-DCD5-4A45-A324-B44AA4E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4A90-4A58-42FA-B8A8-5F5531A6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CC40-93EC-4B94-A328-9F67F6C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5080-9356-4C1E-B267-078E9CF9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2AF2-F941-461E-B736-5909C1D4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1D3D-C7C4-4990-B8DB-D7550325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144-F5A7-4CF6-AF0D-0B978C39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7950-4A04-4107-BD32-A1FE4761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B237-A38D-4DD3-8282-BF9A34DC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B6C6-7D44-4D46-A7B0-6A885FB3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D92-9A16-4539-B5CE-AF712E0B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F216-D1D8-4486-A928-D2C9AC32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01C-A904-427F-850E-829A12A9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3BA-BCD8-4AC4-9667-AF4A3D6D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FAE-2D55-4155-840B-F9A40A6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EA7-D079-4729-962E-DF0E2AF7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75B-6305-4457-BE60-E5977D0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CD9-026E-4F20-8002-ED0FFF0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3E9-94C3-435D-B847-C3BC786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648B-C84A-408D-92BE-E2E5CFD28745}" type="slidenum">
              <a:rPr b="0" lang="pl-P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538B-3657-4909-A907-4504DD60D764}" type="slidenum">
              <a:rPr b="0" lang="pl-P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cc9900"/>
                </a:solidFill>
                <a:latin typeface="Tahoma"/>
              </a:rPr>
              <a:t>Ontologia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743200"/>
            <a:ext cx="4419720" cy="271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rupa nr 5, czwartek 14: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omasz Szeli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ariusz Rozl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weł Kł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ndrzej Gory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 u="sng">
                <a:solidFill>
                  <a:srgbClr val="cc9900"/>
                </a:solidFill>
                <a:uFillTx/>
                <a:latin typeface="Tahoma"/>
              </a:rPr>
              <a:t>Metadane - ogólna definicja: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Tahoma"/>
              </a:rPr>
              <a:t>są to dane o danych - co dane zawierają, jaką mają budowę, jakie jest ich znaczenie, jakim podlegają ograniczeniom, jak są zorganizowane, przechowywane, zabezpieczane, udostępniane, itd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Tahoma"/>
              </a:rPr>
              <a:t>Metadane są pewnym rozszerzeniem pojęcia schematu bazy danych, albo też pewną implementacją tego schematu w postaci katalogów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Tahoma"/>
              </a:rPr>
              <a:t>Metadane przykrywają także informację niezależną od treści samych danych, np. kiedy pewna dana została utworzona, w jakim jest formacie, kto jest jej autorem, do kiedy jest ważna, itd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Tahoma"/>
              </a:rPr>
              <a:t>Opisy danych zawarte w metadanych mają dwie podstawowe zalety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Tahoma"/>
              </a:rPr>
              <a:t>Zawierają wspólne abstrakcje dotyczące reprezentacji danych, takie jak format; ogólnie "wyciągają przed nawias" wszystkie wspólne informacje, co redukuje znacznie objętość samych danych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Tahoma"/>
              </a:rPr>
              <a:t>Reprezentują wiedzę dziedzinową (ontologię); umożliwiają wnioskowanie o danych, mogą być przez to użyte do redukowania dostępu do samych danych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ffffff"/>
                </a:solidFill>
                <a:latin typeface="Tahoma"/>
              </a:rPr>
              <a:t>Ontologia i metadan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Głównym celem prac nad biznesową ontologią jest standardyzacja następujących elementów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Gramatyki opisów poszczególnych bytów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azw i znaczeń nazw obowiązujących w ramach danego biznesu (np. co oznaczają słowa "autor", "klient", "instrument", "akcja", itd.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graniczeń związanych z opisywanymi bytam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Metadanych związanych z bytami (autor opisu, data stworzenia opisu, data ostatniej aktualizacji, itd.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opuszczalnych operacji na byta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 tym zakresie zapis ontologii jest pewną meta-bazą danych, w które ustala się zarówno strukturę samej bazy danych, jak i pewne dodatkowe informacje (meta-atrybuty) będące podstawą przetwarzania bazy dany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05520" y="380520"/>
            <a:ext cx="213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cc9900"/>
                </a:solidFill>
                <a:latin typeface="Tahoma"/>
              </a:rPr>
              <a:t>KONIEC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ffffff"/>
                </a:solidFill>
                <a:latin typeface="Tahoma"/>
              </a:rPr>
              <a:t>Ontologia - </a:t>
            </a:r>
            <a:r>
              <a:rPr b="0" lang="pl-PL" sz="4200" spc="-1" strike="noStrike">
                <a:solidFill>
                  <a:srgbClr val="ffffff"/>
                </a:solidFill>
                <a:latin typeface="Tahoma"/>
              </a:rPr>
              <a:t>definicj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3000" spc="-1" strike="noStrike">
                <a:solidFill>
                  <a:srgbClr val="ffffff"/>
                </a:solidFill>
                <a:latin typeface="Times New Roman"/>
              </a:rPr>
              <a:t>dział  zwany inaczej metafizyką lub nauką o bytach, który stara się odpowiadać na pytania o to z czego składa się  i na jakich zasadach funkcjonuje w sensie jak najbardziej ogólnym, wychodzącym poza to co da się zbadać metodami nauk przyrodniczyc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szczególności ontologia szuka odpowiedzi na następujące pytania (są to tzw. klasyczne pytania ontologiczne, które postawili już starożytni Grecy):</a:t>
            </a:r>
            <a:r>
              <a:rPr b="0" lang="pl-PL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500" spc="-1" strike="noStrike">
                <a:solidFill>
                  <a:srgbClr val="ffffff"/>
                </a:solidFill>
                <a:latin typeface="Tahoma"/>
              </a:rPr>
              <a:t>Czy istnieją jakieś trwałe i niezmienne byty, które stanowią podstawę wszechświata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500" spc="-1" strike="noStrike">
                <a:solidFill>
                  <a:srgbClr val="ffffff"/>
                </a:solidFill>
                <a:latin typeface="Tahoma"/>
              </a:rPr>
              <a:t>Jakie to są byty i jak można dowieść ich istnienia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500" spc="-1" strike="noStrike">
                <a:solidFill>
                  <a:srgbClr val="ffffff"/>
                </a:solidFill>
                <a:latin typeface="Tahoma"/>
              </a:rPr>
              <a:t>Jakie prawa rządzą oddziaływaniami między tymi bytami i jak te byty kreują znaną nam wszystkim codzienną rzeczywistość?</a:t>
            </a:r>
            <a:r>
              <a:rPr b="0" lang="pl-PL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3808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Times New Roman"/>
              </a:rPr>
              <a:t>Oprócz tego ontolodzy szukali często odpowiedzi na konkretne, ważne z ludzkiego punktu widzenia pytania, które w dużym stopniu wynikają z odpowiedzi na wcześniejsze pytania:</a:t>
            </a:r>
            <a:endParaRPr b="0" lang="en-US" sz="2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Tahoma"/>
              </a:rPr>
              <a:t>Czy świat jest ściśle deterministyczny, czy zawarte są w nim elementy nieprzewidywalne i losowe?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Tahoma"/>
              </a:rPr>
              <a:t>Czy istnieje wolna wola?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Tahoma"/>
              </a:rPr>
              <a:t>Czy istnienie znanego nam wszechświata ma jakiś cel i przyczynę?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Tahoma"/>
              </a:rPr>
              <a:t>W jaki sposób świat zjawisk psychicznych (wewnętrznych) i świat zjawisk fizycznych (zewnętrznych) jest z sobą powiązany i jakie między nimi istnieją relacje?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Tahoma"/>
              </a:rPr>
              <a:t>Jakie jest miejsce i rola człowieka we wszechświecie?</a:t>
            </a:r>
            <a:r>
              <a:rPr b="0" lang="pl-PL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Tahoma"/>
              </a:rPr>
              <a:t>Na przestrzeni dziejów szukano odpowiedzi na te pytania na różne sposoby i na różne sposoby na nie odpowiadano. Najsłynniejsze i mające największy wpływ na myślenie ludzi całościowe systemy ontologiczne stworzyli:</a:t>
            </a:r>
            <a:r>
              <a:rPr b="0" lang="pl-PL" sz="4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Heraklit - koncepcja aktywistycz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Anaksymander - koncepcja statycz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Demokryt i Epikur - koncepcja materializmu atomistycznego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Platon i Plotyn i Augstyn - czyli idealizm platonicz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Arystoteles i Tomasz z Akwinu - czyli idealizm racjonal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Kartezjusz - czyli nowożytny idealizm racjonal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Baruch Spinoza - idealizm obiektyw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George Berkeley - idealizm subiektyw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Thomas Hobbes - pierwsza, pełna wersja materializmu mechanicystycznego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Leibniz - monadolog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Hegel - idealizm obiektyw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Karol Marks - materializm dialektycz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Edmund Husserl - Fenomenolog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Bertrand Russel - nowożytna wersja materializmu atomistycznego, zwana atomizmem logicznym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George Whitehead - nowożytny materializm holistyczn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52680" y="7617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ffffff"/>
                </a:solidFill>
                <a:latin typeface="Tahoma"/>
              </a:rPr>
              <a:t>Ontologia czyst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ffffff"/>
                </a:solidFill>
                <a:latin typeface="Tahoma"/>
              </a:rPr>
              <a:t>termin wprowadzony do filozofii przez R.W. Ingardena, wg którego ontologia</a:t>
            </a:r>
            <a:r>
              <a:rPr b="0" lang="pl-PL" sz="3500" spc="-1" strike="noStrike">
                <a:solidFill>
                  <a:srgbClr val="ffffff"/>
                </a:solidFill>
                <a:latin typeface="Times New Roman"/>
              </a:rPr>
              <a:t>, jako nauka aprioryczna, analizuje konieczne struktury przedmiotów możliwych, nie interesuje się zaś faktycznym istnieniem.</a:t>
            </a:r>
            <a:r>
              <a:rPr b="0" lang="pl-P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ffffff"/>
                </a:solidFill>
                <a:latin typeface="Times New Roman"/>
              </a:rPr>
              <a:t>Faktycznym istnieniem i jego przejawami winny się zajmować ontologie: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ahoma"/>
              </a:rPr>
              <a:t>egzystencjalna, analizująca możliwe sposoby istnienia przedmiotów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ahoma"/>
              </a:rPr>
              <a:t>formalna, badająca ich formy, określane jako to, co jakościowe, i obejmująca je z konieczności jako "formy"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ahoma"/>
              </a:rPr>
              <a:t>materialna, analizująca jakościowe uposażenie przedmiotów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ffffff"/>
                </a:solidFill>
                <a:latin typeface="Tahoma"/>
              </a:rPr>
              <a:t>Systemy eksperckie: </a:t>
            </a:r>
            <a:r>
              <a:rPr b="1" lang="pl-PL" sz="4200" spc="-1" strike="noStrike" u="sng">
                <a:solidFill>
                  <a:srgbClr val="ffffff"/>
                </a:solidFill>
                <a:uFillTx/>
                <a:latin typeface="Tahoma"/>
              </a:rPr>
              <a:t>ontologia</a:t>
            </a:r>
            <a:r>
              <a:rPr b="1" lang="pl-PL" sz="4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 sztucznej inteligencji: formalna specyfikacja (przy użyciu logiki matematycznej) obiektów, pojęć i innych bytów, które istnieją w pewnej dziedzinie, oraz formalna specyfikacja związków, które pomiędzy tymi bytami zachodz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dejście sztucznej inteligencji jest naiwne. Np. Giełda Papierów Wartościowych: wiele tysięcy stron aktów prawnych, zarządzeń, regulacji, itd. Kto to zapisze przy użyciu formuł rachunku predykató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ffffff"/>
                </a:solidFill>
                <a:latin typeface="Tahoma"/>
              </a:rPr>
              <a:t>W biznesie (ontologia b</a:t>
            </a:r>
            <a:r>
              <a:rPr b="0" lang="pl-PL" sz="3500" spc="-1" strike="noStrike">
                <a:solidFill>
                  <a:srgbClr val="ffffff"/>
                </a:solidFill>
                <a:latin typeface="Times New Roman"/>
              </a:rPr>
              <a:t>iznesowa): wszystko to, co projektanci systemów informatycznych powinni wiedzieć o biznesie, aby poprawnie napisać aplikacje wspomagające ten biznes. Wiedza ta powinna być formalnie zapisana. "Formalnie" oznacza zwykle pewien standardow</a:t>
            </a:r>
            <a:r>
              <a:rPr b="0" lang="pl-PL" sz="35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pl-PL" sz="3500" spc="-1" strike="noStrike">
                <a:solidFill>
                  <a:srgbClr val="ffffff"/>
                </a:solidFill>
                <a:latin typeface="Times New Roman"/>
              </a:rPr>
              <a:t> i uzgodniony język, np. XML/RDF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7:37:25Z</dcterms:created>
  <dc:creator>Windows</dc:creator>
  <dc:description/>
  <dc:language>en-US</dc:language>
  <cp:lastModifiedBy>Windows</cp:lastModifiedBy>
  <dcterms:modified xsi:type="dcterms:W3CDTF">2003-01-05T21:01:33Z</dcterms:modified>
  <cp:revision>11</cp:revision>
  <dc:subject/>
  <dc:title>Ontologia</dc:title>
</cp:coreProperties>
</file>