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E95A-BC6B-48F2-8A88-A7E4C54EC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A792-243E-4F75-A4F6-3C872082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2F29-3D78-4AE4-9580-FCC3B933F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903F-2085-4400-A2D2-6E3A757D4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9647-5EB7-49B2-842C-D1053F984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7967-DCD3-4894-800B-C38678CF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5F7E-6746-4405-88D5-3C79A59C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43CD-1043-4493-ABBE-522E4A93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9595-D52D-417D-B2DC-FBC5F989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3BC2-1898-4892-8B69-8A5B6A3E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0987-67BC-4A38-B115-208AB263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7057-BC82-4C15-87BD-B200D93A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B02B-7537-4B1D-9B1B-9345D10F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CF30-E23F-4553-8E29-F7A53E13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2A94-4E88-4403-8A1C-455D8DC6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B73D-E957-4E8B-A0D4-297DBBDB7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7651-831C-465E-BC6E-896D4E9F0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C663-1CAD-48BA-92DC-E8FEF641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A4EA-7AC0-4B32-8CB7-6C13F22A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0ABD-4BF6-4A4D-9050-672B959E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B30D-EF91-4A6F-A89F-14B9E7CA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6EBA-7D31-40A3-ABB4-B72DDA95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F738-2828-4689-8F8E-22092FEE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15D9-38A7-4F2B-9A22-D317BF7D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440" y="640080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276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1EDC-B2CB-4F14-9486-A94DD114636E}" type="slidenum">
              <a:rPr b="0" lang="pl-PL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5" name="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440" y="640080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276720" y="640080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1772-8A30-4395-9F6E-D31A9D84BC63}" type="slidenum">
              <a:rPr b="0" lang="pl-PL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800080"/>
              </a:buClr>
              <a:buFont typeface="Arial Black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9900"/>
                </a:solidFill>
                <a:latin typeface="Tahoma"/>
              </a:rPr>
              <a:t>Poziom ontologiczny </a:t>
            </a:r>
            <a:br>
              <a:rPr sz="4400"/>
            </a:br>
            <a:r>
              <a:rPr b="1" lang="pl-PL" sz="4400" spc="-1" strike="noStrike">
                <a:solidFill>
                  <a:srgbClr val="ff9900"/>
                </a:solidFill>
                <a:latin typeface="Tahoma"/>
              </a:rPr>
              <a:t>w zagadnieniu</a:t>
            </a:r>
            <a:br>
              <a:rPr sz="4400"/>
            </a:br>
            <a:r>
              <a:rPr b="1" lang="pl-PL" sz="4400" spc="-1" strike="noStrike">
                <a:solidFill>
                  <a:srgbClr val="ff9900"/>
                </a:solidFill>
                <a:latin typeface="Tahoma"/>
              </a:rPr>
              <a:t> reprezentacji wiedz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Black"/>
              </a:rPr>
              <a:t>W oparciu o publikację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Black"/>
              </a:rPr>
              <a:t>NICOLA GUARINO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 u="sng">
                <a:solidFill>
                  <a:srgbClr val="000000"/>
                </a:solidFill>
                <a:uFillTx/>
                <a:latin typeface="Arial Black"/>
              </a:rPr>
              <a:t>„</a:t>
            </a:r>
            <a:r>
              <a:rPr b="0" i="1" lang="pl-PL" sz="2400" spc="-1" strike="noStrike" u="sng">
                <a:solidFill>
                  <a:srgbClr val="000000"/>
                </a:solidFill>
                <a:uFillTx/>
                <a:latin typeface="Arial Black"/>
              </a:rPr>
              <a:t>The Ontological Level”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486400"/>
            <a:ext cx="952488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 Black"/>
              </a:rPr>
              <a:t>opracowal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Marek Franczyk, Paweł Furman, Patryk Michalik, Sebastian Steh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 Black"/>
              </a:rPr>
              <a:t>Podsumowani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295280" y="2057400"/>
          <a:ext cx="6324840" cy="307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057400"/>
                    <a:ext cx="6324840" cy="30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1628640" y="5029200"/>
            <a:ext cx="58132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Black"/>
              </a:rPr>
              <a:t>Należy zwrócić uwagę, że poziom ontologiczny jako jedyny posiad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Black"/>
              </a:rPr>
              <a:t>formalnie ograniczoną interpretację w formalizmi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Black"/>
              </a:rPr>
              <a:t>Na niższych poziomach zamierzone znaczenie może być dowoln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 Black"/>
              </a:rPr>
              <a:t>gdyż teoria logiki dopuszcza dużą różnorodność model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 Black"/>
              </a:rPr>
              <a:t>Wyższe poziomy (które wciąż będzie można zaimplementowa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Black"/>
              </a:rPr>
              <a:t>na poziomie ontologicznym) mają interpretację subiektywną.</a:t>
            </a: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0" spc="-1" strike="noStrike">
                <a:solidFill>
                  <a:srgbClr val="ffffff"/>
                </a:solidFill>
                <a:latin typeface="Arial Black"/>
              </a:rPr>
              <a:t>:-)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"/>
          <p:cNvSpPr/>
          <p:nvPr/>
        </p:nvSpPr>
        <p:spPr>
          <a:xfrm>
            <a:off x="3087360" y="3352680"/>
            <a:ext cx="299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Arial Black"/>
              </a:rPr>
              <a:t>KONIEC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 Black"/>
              </a:rPr>
              <a:t>Definicj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 Black"/>
              </a:rPr>
              <a:t>Ontologia - </a:t>
            </a: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dział filozofii zajmujący się teorią bytu i strukturą rzeczywistości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 Black"/>
              </a:rPr>
              <a:t>Epistemologia - </a:t>
            </a: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dział filozofii traktujący o przedmiocie, treści, procesach, sposobach, granicach i kryteriach poznania ludzkiego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 Black"/>
              </a:rPr>
              <a:t>wyrażenie pierwotne - </a:t>
            </a: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elementarne wyrażenie stosowane do opisu wiedzy (faktów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 Black"/>
              </a:rPr>
              <a:t>Klasyfikacja wyrażeń pierwotnych (Brachman)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71520" y="2127240"/>
          <a:ext cx="8461440" cy="400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2127240"/>
                    <a:ext cx="8461440" cy="40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457200" y="601992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*) Poziom epistemologiczny proponuje Brachman w 19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 Black"/>
              </a:rPr>
              <a:t>Poziom epistemologiczn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Wypełnia lukę między abstrakcyjnym poziomem logicznym i myślowo-zorientowanym p. konceptualnym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uzasadnia tzw. </a:t>
            </a:r>
            <a:r>
              <a:rPr b="0" i="1" lang="pl-PL" sz="2000" spc="-1" strike="noStrike" u="sng">
                <a:solidFill>
                  <a:srgbClr val="000000"/>
                </a:solidFill>
                <a:uFillTx/>
                <a:latin typeface="Arial Black"/>
              </a:rPr>
              <a:t>połączenia konceptualne</a:t>
            </a: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, bedące strukturalnymi połączeniami w bazie wiedz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jego formalna struktura pozostaje sumą składników myśli i ograniczeń między nimi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 Black"/>
              </a:rPr>
              <a:t>Propozycja Nicola Guarin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Twierdzi on, że poziom epistemologiczny (poziom struktury) nie wypełnia luki. Potrzebny jest dodatkowy pośredni poziom, </a:t>
            </a:r>
            <a:r>
              <a:rPr b="0" i="1" lang="pl-PL" sz="2000" spc="-1" strike="noStrike" u="sng">
                <a:solidFill>
                  <a:srgbClr val="000000"/>
                </a:solidFill>
                <a:uFillTx/>
                <a:latin typeface="Arial Black"/>
              </a:rPr>
              <a:t>ontologiczny</a:t>
            </a: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, będący poziomem znaczenia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Na tym poziomie wyrażenia pierwotne będą ograniczały dość dowolną interpretacje logiczną, oraz będą wprowadzały rozróżnienie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między obiektami świata fizycznego (obekty fiz., zdarzenia, procesy...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między kategoriami modelującymi świat (myśli własności, stany, funkcje...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 Black"/>
              </a:rPr>
              <a:t>Podejście Lingwisty i Filozof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Problem, który Brachman pominął w swojej klasyfikacji, Bill Woods opisał z perspektywy Lingwisty i Filozofa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Black"/>
              </a:rPr>
              <a:t>„</a:t>
            </a:r>
            <a:r>
              <a:rPr b="0" lang="pl-PL" sz="2400" spc="-1" strike="noStrike">
                <a:solidFill>
                  <a:srgbClr val="000000"/>
                </a:solidFill>
                <a:latin typeface="Arial Black"/>
              </a:rPr>
              <a:t>Pierwszy zainteresowany jest faktem, iż to samo zdanie można może mieć różne znaczenia. Drugi skupia się raczej na określeniu formalnej notacji niż na formach języka naturalnego.”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Arial Black"/>
              </a:rPr>
              <a:t>Ujednolicony podział predykatów jendoargumantowych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371600" y="1981080"/>
          <a:ext cx="6553080" cy="344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81080"/>
                    <a:ext cx="6553080" cy="34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066680" y="52578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 Black"/>
              </a:rPr>
              <a:t>Ta terminologia pozwala pogodzić pojęcia lingwistyczne z filozoficznymi. Zarazem jest zgodna z podziałem Strawson’a klasyfikującym predykaty pod względem ich zdolności do identyfikacji argument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 Black"/>
              </a:rPr>
              <a:t>Definicj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 Black"/>
              </a:rPr>
              <a:t>Ontologiczna sztywność - </a:t>
            </a: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to cecha predykatu, który nadaje obiektowi tożsamość i nie podlega dyskusji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np.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Arial Black"/>
              </a:rPr>
              <a:t>- „X jest jabłkiem”</a:t>
            </a: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 - pred. ontolog. sztywny, ponieważ, gdy X przestanie być jabłkiem  straci swoją tożsamość;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i="1" lang="pl-PL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Arial Black"/>
              </a:rPr>
              <a:t>- „X jest czerwone”</a:t>
            </a: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 - niesztywny predyk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 Black"/>
              </a:rPr>
              <a:t>Przykład wariantów ontologicznych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28600" y="2100240"/>
          <a:ext cx="5908680" cy="475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00240"/>
                    <a:ext cx="5908680" cy="47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019920" y="3352680"/>
            <a:ext cx="2904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Kreski oznaczaj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relacje bezpośredni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gwiazdki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rodzaje konkret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72200" y="220968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Black"/>
              </a:rPr>
              <a:t>(1) „</a:t>
            </a:r>
            <a:r>
              <a:rPr b="0" i="1" lang="pl-PL" sz="1600" spc="-1" strike="noStrike">
                <a:solidFill>
                  <a:srgbClr val="000000"/>
                </a:solidFill>
                <a:latin typeface="Arial Black"/>
              </a:rPr>
              <a:t>czerwone</a:t>
            </a:r>
            <a:r>
              <a:rPr b="0" lang="pl-PL" sz="1600" spc="-1" strike="noStrike">
                <a:solidFill>
                  <a:srgbClr val="000000"/>
                </a:solidFill>
                <a:latin typeface="Arial Black"/>
              </a:rPr>
              <a:t>” nie jest sztywny ontologicznie i nie posiada nadrzędnego rodzaju konkretnego. Jest to charakteryzujący predykat mający za argument obiekt fizyczn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5880" y="2133720"/>
            <a:ext cx="28195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Black"/>
              </a:rPr>
              <a:t>(2) „</a:t>
            </a:r>
            <a:r>
              <a:rPr b="0" i="1" lang="pl-PL" sz="1600" spc="-1" strike="noStrike">
                <a:solidFill>
                  <a:srgbClr val="000000"/>
                </a:solidFill>
                <a:latin typeface="Arial Black"/>
              </a:rPr>
              <a:t>czerwony</a:t>
            </a:r>
            <a:r>
              <a:rPr b="0" lang="pl-PL" sz="1600" spc="-1" strike="noStrike">
                <a:solidFill>
                  <a:srgbClr val="000000"/>
                </a:solidFill>
                <a:latin typeface="Arial Black"/>
              </a:rPr>
              <a:t>” nie jest ontologicznie sztywny. Jest niekonkretnym rodzaj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19920" y="213372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Black"/>
              </a:rPr>
              <a:t>(3) „czerwony” jest sztywnym predykatem i rodzajem kokretny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19920" y="2057400"/>
            <a:ext cx="3124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Black"/>
              </a:rPr>
              <a:t>(4) „czerwony” nie jest ani predykatem sztywnym, ani charakteryzującym, lecz rodzajem niekonkretnym o odmiennym znaczeniu ontologicznym niż w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20:22:29Z</dcterms:created>
  <dc:creator>Valkez</dc:creator>
  <dc:description/>
  <dc:language>en-US</dc:language>
  <cp:lastModifiedBy>Valkez</cp:lastModifiedBy>
  <dcterms:modified xsi:type="dcterms:W3CDTF">2002-12-18T23:03:26Z</dcterms:modified>
  <cp:revision>17</cp:revision>
  <dc:subject/>
  <dc:title>Poziom ontologiczny  w zagadnieniu  reprezentacji wiedzy</dc:title>
</cp:coreProperties>
</file>