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811-7D81-46BE-B3B1-8F938EC7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412-6864-43A1-823D-11D6B025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A92-14EF-4F90-BDE7-2E7027F7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5BD-4828-4F88-B2C8-B9281297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3568-EB38-413D-A9CF-CDE230D6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89B9-8B5A-48F0-909C-D247BEC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3F11-4E10-46B2-A868-213598B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57B1-8206-43F1-8CED-03928D05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0932-FEC0-47BB-B37F-3DD71F21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CF68-56A4-429E-8A0B-885175D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F1EA-EF13-424B-BB85-1A3947A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9C6-3F75-40EC-8DDF-E337D6E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EF5E-1A13-49F4-88E9-1167515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611-ACFF-4721-A8AE-6AC71B6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00A5-37CA-4616-8259-E072D34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B132-498B-4184-A5DE-4D2A039F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EFB9-2607-40C8-A90D-A4761969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425-350E-4913-9B81-8FAA5C9D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780-1A70-447D-BD74-37E9E081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8E2-5E13-4DFB-A365-B65F999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2E4-9939-4C86-BC72-0E97AC3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D58-97B6-4DB2-8A6A-DBA1910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642-B37A-4108-9E46-1884131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A52-D04D-4565-9766-80D427E5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E2F2-4B2A-4EC6-BDA2-1C1E036419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E67C-1387-4D4A-B621-00C3424AC2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clarativa.com/InterProlog%20/" TargetMode="External"/><Relationship Id="rId2" Type="http://schemas.openxmlformats.org/officeDocument/2006/relationships/hyperlink" Target="http://www.declarativa.com/InterProlog%20/" TargetMode="External"/><Relationship Id="rId3" Type="http://schemas.openxmlformats.org/officeDocument/2006/relationships/hyperlink" Target="http://www.declarativa.com/InterProlog%20/" TargetMode="External"/><Relationship Id="rId4" Type="http://schemas.openxmlformats.org/officeDocument/2006/relationships/hyperlink" Target="http://www.declarativa.com/InterProlog%20/" TargetMode="External"/><Relationship Id="rId5" Type="http://schemas.openxmlformats.org/officeDocument/2006/relationships/hyperlink" Target="http://www.declarativa.com/InterProlog%20/" TargetMode="External"/><Relationship Id="rId6" Type="http://schemas.openxmlformats.org/officeDocument/2006/relationships/hyperlink" Target="http://www.declarativa.com/InterProlog%20/" TargetMode="External"/><Relationship Id="rId7" Type="http://schemas.openxmlformats.org/officeDocument/2006/relationships/hyperlink" Target="http://www.declarativa.com/InterProlog%20/" TargetMode="External"/><Relationship Id="rId8" Type="http://schemas.openxmlformats.org/officeDocument/2006/relationships/hyperlink" Target="http://www.declarativa.com/InterProlog%20/" TargetMode="External"/><Relationship Id="rId9" Type="http://schemas.openxmlformats.org/officeDocument/2006/relationships/hyperlink" Target="http://www.declarativa.com/InterProlog%20/" TargetMode="Externa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wi-prolog.org/packages/jpl/java_api/index.html" TargetMode="External"/><Relationship Id="rId2" Type="http://schemas.openxmlformats.org/officeDocument/2006/relationships/hyperlink" Target="http://www.swi-prolog.org/packages/jpl/java_api/index.html" TargetMode="External"/><Relationship Id="rId3" Type="http://schemas.openxmlformats.org/officeDocument/2006/relationships/hyperlink" Target="http://www.swi-prolog.org/packages/jpl/java_api/index.html" TargetMode="External"/><Relationship Id="rId4" Type="http://schemas.openxmlformats.org/officeDocument/2006/relationships/hyperlink" Target="http://www.swi-prolog.org/packages/jpl/java_api/index.html" TargetMode="External"/><Relationship Id="rId5" Type="http://schemas.openxmlformats.org/officeDocument/2006/relationships/hyperlink" Target="http://www.swi-prolog.org/packages/jpl/java_api/index.html" TargetMode="External"/><Relationship Id="rId6" Type="http://schemas.openxmlformats.org/officeDocument/2006/relationships/hyperlink" Target="http://www.swi-prolog.org/packages/jpl/java_api/index.html" TargetMode="External"/><Relationship Id="rId7" Type="http://schemas.openxmlformats.org/officeDocument/2006/relationships/hyperlink" Target="http://www.swi-prolog.org/packages/jpl/java_api/index.html" TargetMode="External"/><Relationship Id="rId8" Type="http://schemas.openxmlformats.org/officeDocument/2006/relationships/hyperlink" Target="http://www.swi-prolog.org/packages/jpl/java_api/index.html" TargetMode="External"/><Relationship Id="rId9" Type="http://schemas.openxmlformats.org/officeDocument/2006/relationships/hyperlink" Target="http://www.swi-prolog.org/packages/jpl/java_api/index.html" TargetMode="External"/><Relationship Id="rId10" Type="http://schemas.openxmlformats.org/officeDocument/2006/relationships/hyperlink" Target="http://www.swi-prolog.org/packages/jpl/java_api/index.html" TargetMode="External"/><Relationship Id="rId11" Type="http://schemas.openxmlformats.org/officeDocument/2006/relationships/hyperlink" Target="http://www.swi-prolog.org/packages/jpl/java_api/index.html" TargetMode="External"/><Relationship Id="rId12" Type="http://schemas.openxmlformats.org/officeDocument/2006/relationships/hyperlink" Target="http://www.swi-prolog.org/packages/jpl/java_api/index.html" TargetMode="External"/><Relationship Id="rId13" Type="http://schemas.openxmlformats.org/officeDocument/2006/relationships/hyperlink" Target="http://www.swi-prolog.org/packages/jpl/java_api/index.html" TargetMode="External"/><Relationship Id="rId14" Type="http://schemas.openxmlformats.org/officeDocument/2006/relationships/hyperlink" Target="http://www.swi-prolog.org/packages/jpl/java_api/index.html" TargetMode="External"/><Relationship Id="rId15" Type="http://schemas.openxmlformats.org/officeDocument/2006/relationships/hyperlink" Target="http://www.swi-prolog.org/packages/jpl/java_api/index.html" TargetMode="External"/><Relationship Id="rId16" Type="http://schemas.openxmlformats.org/officeDocument/2006/relationships/hyperlink" Target="http://www.swi-prolog.org/packages/jpl/java_api/index.html" TargetMode="External"/><Relationship Id="rId17" Type="http://schemas.openxmlformats.org/officeDocument/2006/relationships/hyperlink" Target="http://www.swi-prolog.org/packages/jpl/java_api/index.html" TargetMode="External"/><Relationship Id="rId18" Type="http://schemas.openxmlformats.org/officeDocument/2006/relationships/hyperlink" Target="http://www.swi-prolog.org/packages/jpl/java_api/index.html" TargetMode="External"/><Relationship Id="rId1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eclarativa.com/interprolog/systems.htm" TargetMode="External"/><Relationship Id="rId2" Type="http://schemas.openxmlformats.org/officeDocument/2006/relationships/hyperlink" Target="http://www.declarativa.com/interprolog/systems.htm" TargetMode="External"/><Relationship Id="rId3" Type="http://schemas.openxmlformats.org/officeDocument/2006/relationships/hyperlink" Target="http://www.declarativa.com/interprolog/systems.htm" TargetMode="External"/><Relationship Id="rId4" Type="http://schemas.openxmlformats.org/officeDocument/2006/relationships/hyperlink" Target="http://www.declarativa.com/interprolog/systems.htm" TargetMode="External"/><Relationship Id="rId5" Type="http://schemas.openxmlformats.org/officeDocument/2006/relationships/hyperlink" Target="http://www.declarativa.com/interprolog/systems.htm" TargetMode="External"/><Relationship Id="rId6" Type="http://schemas.openxmlformats.org/officeDocument/2006/relationships/hyperlink" Target="http://www.declarativa.com/interprolog/systems.htm" TargetMode="External"/><Relationship Id="rId7" Type="http://schemas.openxmlformats.org/officeDocument/2006/relationships/hyperlink" Target="http://www.declarativa.com/interprolog/systems.htm" TargetMode="External"/><Relationship Id="rId8" Type="http://schemas.openxmlformats.org/officeDocument/2006/relationships/hyperlink" Target="http://www.declarativa.com/interprolog/systems.htm" TargetMode="External"/><Relationship Id="rId9" Type="http://schemas.openxmlformats.org/officeDocument/2006/relationships/hyperlink" Target="http://www.declarativa.com/interprolog/systems.htm" TargetMode="External"/><Relationship Id="rId10" Type="http://schemas.openxmlformats.org/officeDocument/2006/relationships/hyperlink" Target="http://www.declarativa.com/interprolog/systems.htm" TargetMode="External"/><Relationship Id="rId11" Type="http://schemas.openxmlformats.org/officeDocument/2006/relationships/hyperlink" Target="http://www.declarativa.com/interprolog/systems.htm" TargetMode="External"/><Relationship Id="rId12" Type="http://schemas.openxmlformats.org/officeDocument/2006/relationships/hyperlink" Target="http://www.declarativa.com/interprolog/systems.htm" TargetMode="External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ccecff"/>
                </a:solidFill>
                <a:latin typeface="Arial"/>
              </a:rPr>
              <a:t>Łączenie Prologa z innymi językami programowani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3002040" cy="288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5084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Sławomir Baz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arek Grab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dam Lib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Verdana"/>
              </a:rPr>
              <a:t>AiR – EAI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Verdana"/>
              </a:rPr>
              <a:t>2004/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ter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zydatne adres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declarativa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com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InterProlog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http://www.cs.ucy.ac.cy/compulog/dec98update/projects/interprolog.ht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P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JPL - dwukierunkowy interfejs Java/Prolo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łasnoś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działa w oparciu o SWI Prolog oraz interfejs jni dla Jav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ozwala dodawać kod Prologa do programu w Jav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ozwala dodawać kod Javy do programu w Prolog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ykorzystuje dynamiczną bibliotekę d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ojekt dystrybuowany na licencji G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ożliwoś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orzystanie ze wszystkich klas i metod Jav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użycie wszystkich standardowych bibliotek i predykatów Prolog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tworzenie hybrydowych aplikacji (Java+Prolo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P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ogramowanie od strony Prolog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pl_new(Class, Params, Ref)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-tworzenie instancji klasy Class Javy z parametrami Javy, zwracana jest referencja Re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pl_call(Ref, Method, Params, Result)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- wywołanie metody należącej do wcześniej utworzonej instancji klas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P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ogramowanie od strony Jav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zykład użycia, kod w Prologu, zapisany w pliku test.p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ild_of(joe, ralf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ild_of(mary, joe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ild_of(steve, joe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scendent_of(X, Y) :- child_of(X, Y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scendent_of(X, Y) :- child_of(Z, Y), descendent_of(X, Z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od w Jav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Query q1 = new Query("consult",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w Term[] {new Atom("test.pl")}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P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Sprawdzenie powodzenia akcji za pomocą metody </a:t>
            </a:r>
            <a:r>
              <a:rPr b="0" i="1" lang="pl-PL" sz="1800" spc="-1" strike="noStrike">
                <a:solidFill>
                  <a:srgbClr val="ffffff"/>
                </a:solidFill>
                <a:latin typeface="Verdana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ystem.out.println( "consult " + (q1.query() ?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"succeeded" : "failed"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zesłanie zapytania do bazy dany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Query q2 = new Query(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"child_of", new Term[] {new Atom("joe"),new Atom("ralf")})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ystem.out.println("child_of(joe,ralf) is " +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( q2.query() ? "provable" : "not provable" 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P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Zapytanie z użyciem zmienny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Variable X = new Variable()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Query q4 = new Query(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        "descendent_of", new Term[] {X,new Atom("ralf")})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ava.util.Hashtable solution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olution = q4.oneSolution()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ystem.out.println(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"first solution of descendent_of(X, ralf)");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ystem.out.println( "X = " + solution.get(X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Znalezienie wszystkich rozwiąza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ava.util.Hashtable[] solutions = q4.allSolutions()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for ( int i=0 ; i&lt;solutions.length ; i++ ) {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    System.out.println( "X = " + solutions[i].get(X));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P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zydatne adres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swi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-prolog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org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packages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jpl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java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_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api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index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html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a i 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Inne interfejs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Amz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B-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Bin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BirdL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Ciao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DGKS 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asp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ava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ranslatory Prologa do Jav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LPj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rolog Caf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IP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I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Kie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MINERV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rolog I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rinc-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yajxb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Interprete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INN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W-Prolo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a i 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zydatne adres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declarativa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com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interprolog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/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systems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.</a:t>
            </a:r>
            <a:r>
              <a:rPr b="0" lang="pl-PL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ht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Amzi Prolog Logic Server LSAP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Środowisko Amzi Prolog Logic Server dostarcza usługi związane z korzystaniem z plików napisanych w Prologu w oparciu o mechanizm klient-serwer. Program uruchamia serwer Prologa, a następnie zadaje mu zapytania. LSAPI umożliwia budować termy, konwertować stringi do/z termów, przekazywać termy z/do Prolog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iblioteka LSAPI znajduje się w pliku ‘logicServer.h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ołączenie z serwerem w C++ zapewnia klasa LogicServer, w przypadku C jest to zestaw funkcji (nazwy zaczynają się od l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Najprostszy program w C++ będący jedynie hostem dla programu Prologa wywołuje następujące funkcje klas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Init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() – ładuje do pamięci silnik serwe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Load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(logic_base_name) – wczytuje skompilowany program Prologa (logic_base_name.xp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Main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() – uruchamia główny predykat ‘main’ program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Close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() – usuwa z pamięci silnik serwe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a i 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język wieloplatformowy, przenoś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 całości zorientowany obiektow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tworzony dla potrzeb aplikacji internetowy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używany do tworzenia inteligentnych komponentów, w których wiedza wyrażana jest w kategoriach logiki, czyli zbliżonych do ludzkiego rozumowan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Amzi Prolog Logic Server LSAP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Najprostsza metoda zadawania pytań do Prologa i odczytywania odpowiedzi odbywa się za pomocą stringów poprzez funkcj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erm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CallStr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(query_string) – konwertuje query_string do postaci termu i go wywołuje, jeśli zapytanie poprawne zwraca term, w p.p. 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erm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ExecStr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(query_string) – to samo, ale bez obsługi nawrotów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tring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TermToStr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(term) – konwertuje do stringu otrzymaną odpowiedź na podany te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f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Redo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() – wykonuje nawrót w celu pobrania kolejnych rozwiązań, gdy istnieje zwraca true, w p.p. fal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Verdana"/>
              </a:rPr>
              <a:t>Przykła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Verdana"/>
              </a:rPr>
              <a:t>Plik Prologu: XGENE.P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mother(elaine,mary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mother(elaine,kathy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mother(elaine,ricky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mother(elaine,jenny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ibling(X,Y) :- mother(P,X), mother(P,Y), X&lt;&gt;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Amzi Prolog Logic Server LSAP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3959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Verdana"/>
              </a:rPr>
              <a:t>Fragment kodu w C++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F tf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ERM 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char s[80]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s.Init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s.Load("xgene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 = ls.CallStr("sibling(mary, X)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if (t == FALSE) tf = FALS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else tf = TRU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while (tf == TRUE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rintf("%s\n", ls.TermToStr(t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f = ls.Redo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s.Close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072760" y="5157720"/>
            <a:ext cx="36097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Verdana"/>
              </a:rPr>
              <a:t>Wynik działania program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ibling(mary, kath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ibling(mary, rick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ibling(mary, jenn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Amzi Prolog Logic Server LSAP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Verdana"/>
              </a:rPr>
              <a:t>Wywoływanie funkcji języka obcego z Prolog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Warunki dla tworzonych funkcj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usi zwracać true lub fal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Zawodzi przy nawroc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rgumenty predykatów przekazywane są poprzez zestaw funkcji bibliotecznych LSAP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 celu zarejestrowania funkcji  jako predykat używa się poleceni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sAddPred(char *name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, ARITY arg, VOIDptr ptr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gdzi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ame – nazwa rejestrowaneg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redykat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arg - liczba argumentów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rejestrowanej funkcj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tr – wskaźnik 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rejestrowanej funkcj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400360" y="4260960"/>
            <a:ext cx="33627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Verdana"/>
              </a:rPr>
              <a:t>Przykł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F p_writeln(voi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int v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sGetParm(1, pINT, &amp;val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rintf("%d", val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return TR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sAddPred("writeln", 1, p_writeln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zydatne adresy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http://www.amzi.com/manuals/amzi7/ls/lsprguid.ht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rinc-Prolog D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Środowisko Trinc-Prolog pozwala na łączenie Prologa z innymi językami programowania za pomocą biblioteki tp_32.dl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ffffff"/>
                </a:solidFill>
                <a:uFillTx/>
                <a:latin typeface="Verdana"/>
              </a:rPr>
              <a:t>Możliwe połączenia Trinc-Prolog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3520" y="3886200"/>
          <a:ext cx="8153280" cy="2514600"/>
        </p:xfrm>
        <a:graphic>
          <a:graphicData uri="http://schemas.openxmlformats.org/drawingml/2006/table">
            <a:tbl>
              <a:tblPr/>
              <a:tblGrid>
                <a:gridCol w="4419360"/>
                <a:gridCol w="373392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Delph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C+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Visual Bas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Borland C++ Buil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Ja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rinc-Prolog D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la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ś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odowiska Borland C++ Builder jest przeznaczona specjalna klasa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prologEngin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która zapewnia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ł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atw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ą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obs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ł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ug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ę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tp_32.dll. Deklaracja tej klasy zawarta jest w pliku </a:t>
            </a:r>
            <a:r>
              <a:rPr b="1" lang="pl-P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comp.h.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Funkcje klasy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PrologEngine( TComponent* Owner ) – konstruktor klas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virtual ~TPrologEngine( void 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destrukto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atic int Version( void )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wersja interfejs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t Prove( char *Goal )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wykonanie predykat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t Continue( void )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znajduje kolejne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ozw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t NumVars( void )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liczba zm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zapytan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nst char *VarName( int Index )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nazwa zmienne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nst char *VarValue( int Index 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warto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ś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zmienne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t VarType( int Index 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typ zmienne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rinc-Prolog D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ffffff"/>
                </a:solidFill>
                <a:uFillTx/>
                <a:latin typeface="Verdana"/>
              </a:rPr>
              <a:t>Przykła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suma(1,1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suma(N,X) :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 &gt; 1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1 is N – 1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suma(N1,X1)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X is X1 + 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rinc-Prolog D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Verdana"/>
              </a:rPr>
              <a:t>Fragment kodu Borland Builder C++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PrologEngine *_Engine1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_Engine1 = new TPrologEngine(this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t result = _Engine1-&gt;Prove(“suma(5,N).”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t NumVar = _Engine1-&gt;NumVars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f ( result == TP_SOLUTION 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( int i=0; i&lt;NumVar; i++ 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r  = AnsiString( Engine-&gt;VarName(i)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r += AnsiString(" = 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r += AnsiString( Engine-&gt;VarValue(i)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r += AnsiString(", 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xt += Str;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pplication-&gt;MessageBox(Text.c_str(), “Wynik”, MB_OK);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a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24386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Lin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http://www.trinc-prolog.com/doc/pl_dll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a i 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ołączenie Prologa z Javą pozwala na wykorzystanie najmocniejszych stron obu języków. Umożliwia tworzenie rozbudowanych systemów doradczych z interfejsem graficznym, w znaczący sposób ułatwiając obsługę takich systemów, a także wykorzystanie możliwości Internet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ożliwoś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tworzenie aplikacji w Javie z fragmentami kodu w Prologu, polega to na zastosowaniu odpowiedniej biblioteki i połączeniu poszczególnych części programu w czasie kompilacj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ykorzystanie dynamicznie dołączonej biblioteki dl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często używane rozwiązanie polegające na zastosowaniu serwera, dostarczającego usług związanych z programem w Prologu (przykładem jest Amzi Prolog Logic Server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ter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Dostępny dla systemó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ac OS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spie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SWI Pro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XSB Pro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Dystrybuowany na licencji G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ożliwoś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ywołanie dowolnego celu Prologa poprzez obiekt </a:t>
            </a:r>
            <a:r>
              <a:rPr b="0" i="1" lang="pl-PL" sz="1800" spc="-1" strike="noStrike">
                <a:solidFill>
                  <a:srgbClr val="ffffff"/>
                </a:solidFill>
                <a:latin typeface="Verdana"/>
              </a:rPr>
              <a:t>PrologEngine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ywołanie dowolnej metody przy użyciu predykatu </a:t>
            </a:r>
            <a:r>
              <a:rPr b="0" i="1" lang="pl-PL" sz="1800" spc="-1" strike="noStrike">
                <a:solidFill>
                  <a:srgbClr val="ffffff"/>
                </a:solidFill>
                <a:latin typeface="Verdana"/>
              </a:rPr>
              <a:t>javaMess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zajemna rekurenc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spiera wielowątkowość Jav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ter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ogramowanie od strony Prolog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Dostarczone predykaty pozwalają wywołać dowolną metodę lub konstruktor Java. Najważniejsze z nich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ipPrologEngine(E)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- zwraca referencję do obiektu </a:t>
            </a:r>
            <a:r>
              <a:rPr b="0" i="1" lang="pl-PL" sz="1800" spc="-1" strike="noStrike">
                <a:solidFill>
                  <a:srgbClr val="ffffff"/>
                </a:solidFill>
                <a:latin typeface="Verdana"/>
              </a:rPr>
              <a:t>PrologEngine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, który uruchomił ten proces Prolog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avaMessage(Target, Result, Exception, Message, ArgList, NewArgList)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- synchronicznie wysyła wiadomość Message do obiektu Target, czekając na rezultat Result, przechwytując ewentualne wyjątki Exception. Przesyłane są argumenty ArgList, do NewArgList zapisywane są ewentualnie zmienione argumen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javaMessage(Target, Result, Message)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- działa tak samo jak pełna instrukcja, z tym, że wiadomość ma format nazwaMetody(argumenty), jeżeli nastąpi jakiś wyjątek to przesłany on zostanie do wyjściowego strumienia Prologa, natomiast metoda nie wykona si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ter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zykład użycia predykat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avaMessage('javax.swing.JFrame',W,'JFrame'(string(myTitle))), 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avaMessage(W,C,getContentPane), 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javaMessage('javax.swing.JLabel',L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'JLabel'(string('Hello Prolog, greetings from Swing:-)')))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avaMessage(C,add(string('Center'),L))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avaMessage(W,pack),javaMessage(W,show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owyższy kod spowoduje pojawienie się okn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27280" y="4869000"/>
            <a:ext cx="410220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ter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izualizacja danych Prolog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browseTerm(Term)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- predykat powoduje utworzenie okna pozwalającego przeglądać Ter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zykład uży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rowseTerm(callAnotherProlog(SWI, findall(op(P,T,Name),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_op(P,T,Name), SWIops))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19640" y="4653000"/>
            <a:ext cx="22478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ter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ogramowanie od strony Jav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InterProlog składa się z czterech pakietó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com.declarativa.interprolog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odstawowy paki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com.declarativa.interprolog.gui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izualizac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com.declarativa.interprolog.util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dodatowe narzędz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com.xsb.interprolog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dla XSB Pro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Najważniejszą klasą jest </a:t>
            </a:r>
            <a:r>
              <a:rPr b="0" i="1" lang="pl-PL" sz="1800" spc="-1" strike="noStrike">
                <a:solidFill>
                  <a:srgbClr val="ffffff"/>
                </a:solidFill>
                <a:latin typeface="Verdana"/>
              </a:rPr>
              <a:t>PrologEngine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z pakietu com.declarativa.interpro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terPro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lasa </a:t>
            </a:r>
            <a:r>
              <a:rPr b="0" i="1" lang="pl-PL" sz="1800" spc="-1" strike="noStrike">
                <a:solidFill>
                  <a:srgbClr val="ffffff"/>
                </a:solidFill>
                <a:latin typeface="Verdana"/>
              </a:rPr>
              <a:t>PrologEngine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zawiera szereg metod, z których najważniejsz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ublic Object[] deterministicGoal (String G, String OVar, Object[] objectsP, String RVars)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- wysyła synchronicznie zapytanie do Prologa, tylko pierwsze rozwiązanie jest rozważa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arametr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G - term celu Prolog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OVar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- zmienna Prologa, która będzie przypisana do tablicy obiektów objects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objectsP - tablica obiektów w Javie, która ma być przekazana do Prolog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RVars - lista Prologa ze specyfikacją obiektów, zwykle zawiera zmienne występujące w 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Zwrac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ową tablicę, zawierającą obiekt dla każdego termu z listy RVars lub NULL jeśli wywołanie się nie powiedzi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Instrukcja posiada też kilka uproszczonych wersji, w których nie występuja wszystkie powyższe parametr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0:05:24Z</dcterms:created>
  <dc:creator>Adam</dc:creator>
  <dc:description/>
  <dc:language>en-US</dc:language>
  <cp:lastModifiedBy>Marek</cp:lastModifiedBy>
  <dcterms:modified xsi:type="dcterms:W3CDTF">2005-01-16T00:05:09Z</dcterms:modified>
  <cp:revision>28</cp:revision>
  <dc:subject/>
  <dc:title>Łączenie Prologa z innymi językami programowania</dc:title>
</cp:coreProperties>
</file>