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1.png" ContentType="image/png"/>
  <Override PartName="/ppt/media/image6.wmf" ContentType="image/x-wmf"/>
  <Override PartName="/ppt/media/image31.wmf" ContentType="image/x-wmf"/>
  <Override PartName="/ppt/media/image12.png" ContentType="image/png"/>
  <Override PartName="/ppt/media/image7.wmf" ContentType="image/x-wmf"/>
  <Override PartName="/ppt/media/image32.wmf" ContentType="image/x-wmf"/>
  <Override PartName="/ppt/media/image16.wmf" ContentType="image/x-wmf"/>
  <Override PartName="/ppt/media/image8.png" ContentType="image/png"/>
  <Override PartName="/ppt/media/image13.png" ContentType="image/png"/>
  <Override PartName="/ppt/media/image33.wmf" ContentType="image/x-wmf"/>
  <Override PartName="/ppt/media/image17.wmf" ContentType="image/x-wmf"/>
  <Override PartName="/ppt/media/image9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.png" ContentType="image/png"/>
  <Override PartName="/ppt/media/image2.png" ContentType="image/png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01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2F8E-0FC0-4AC9-AE45-B38DEB55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1C58-1207-4FB3-9C7E-9395E76F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6BCD-F5CC-497A-A3A0-DB299BFD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1524-9EEF-4A93-8D43-B701D903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1CA6-A29D-493E-A928-163B734C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F83F-B299-437E-A2B9-618F6A26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00A7-F4E3-4F8C-8551-E07AC2B5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C9F9-2129-4518-B60E-C6AC8CC8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C08F-D3BA-4C0D-B625-BB4BCEC2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650E-4ABA-4510-83CE-4191D517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A39C-66E4-4AF1-BC85-6F969447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C0A8-082F-438E-9792-D453A1E8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968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1462" r="0" b="0"/>
          <a:stretch/>
        </p:blipFill>
        <p:spPr>
          <a:xfrm>
            <a:off x="0" y="6353280"/>
            <a:ext cx="9144000" cy="50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445080"/>
            <a:ext cx="21337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426360"/>
            <a:ext cx="2895840" cy="2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791400" y="6416640"/>
            <a:ext cx="21333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6028-25E6-4876-905A-AC90130F3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-3240" y="495360"/>
            <a:ext cx="3810240" cy="1771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561"/>
              </a:spcBef>
              <a:buClr>
                <a:srgbClr val="336699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9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3880" y="620280"/>
            <a:ext cx="7102440" cy="46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Logika rozmyta w podejmowaniu decyzji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75760" y="2037960"/>
            <a:ext cx="866772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lvl="1" marL="743040"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Marcin Saja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iotr Zię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 Narrow"/>
              </a:rPr>
              <a:t>AiR – EA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 Narrow"/>
              </a:rPr>
              <a:t>2004/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03400" y="698400"/>
            <a:ext cx="14292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14800" y="1959120"/>
            <a:ext cx="3001680" cy="288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2094-B988-4A9E-A075-106E3F74B226}" type="slidenum">
              <a:t>1</a:t>
            </a:fld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Systemy wnioskowania rozmytego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Struktura przykładowego systemu o 2 wejściach i 1 wyjściu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1600" y="2579760"/>
            <a:ext cx="8726400" cy="348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A837-5DBC-421F-A699-7063C18AAD82}" type="slidenum">
              <a:t>10</a:t>
            </a:fld>
          </a:p>
        </p:txBody>
      </p:sp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Fuzyfikacja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Przykładowe zbiory rozmyte dla sygnałów wejściowych x</a:t>
            </a:r>
            <a:r>
              <a:rPr b="1" lang="pl-PL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* i x</a:t>
            </a:r>
            <a:r>
              <a:rPr b="1" lang="pl-PL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* wraz z ilustracją obliczania stopnia przynależności A</a:t>
            </a:r>
            <a:r>
              <a:rPr b="1" lang="pl-PL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1" lang="pl-PL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*) i B</a:t>
            </a:r>
            <a:r>
              <a:rPr b="1" lang="pl-PL" sz="2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1" lang="pl-PL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*) sygnałów do poszczególnych zbiorów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55600" y="3249720"/>
            <a:ext cx="7051680" cy="296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E874-9FAC-42D8-A6B3-8E7C70B2AF91}" type="slidenum">
              <a:t>11</a:t>
            </a:fld>
          </a:p>
        </p:txBody>
      </p:sp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Inferencja - wnioskowanie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14"/>
              </a:spcBef>
              <a:spcAft>
                <a:spcPts val="649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Blok INFERENCJA musi zawierać następujące, ściśle zdefiniowane elementy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azę reguł (zestaw reguł tworzących system ekspertow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echanizm inferencyjny (algorytm przetwarzający reguły w wielu przejściach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24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każdym przejściu, mechanizm odnajduje wszystkie reguły spełniające zadany warunek (część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if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24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stępnie podejmuje akcję (część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 i wykonuje ponowne przetworzenie wszystkich reguł w poszukiwaniu kolejnego spełnionego warunku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24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zynności te są powtarzane do momentu, w którym nie będzie już żadnych reguł spełniających warunk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unkcje przynależności wyjścia y modelu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617F-5D10-4E20-973D-DF7B94E8883B}" type="slidenum">
              <a:t>12</a:t>
            </a:fld>
          </a:p>
        </p:txBody>
      </p:sp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Inferencja - wnioskowanie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14"/>
              </a:spcBef>
              <a:spcAft>
                <a:spcPts val="649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Reguły w bloku inferencji mogą być przetwarzane w jednym z dwóch kierunków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nioskowanie wprzód: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chodzenie od warunków do akcji związanych z daną regułą, traktując wynik akcji jako nowy warune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nioskowanie wstecz: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konywane w kierunku przeciwny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zykł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a wymienione rodzaje wnioskowania są stosowane przez lekarz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561"/>
              </a:spcBef>
              <a:buClr>
                <a:srgbClr val="336699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nioskowanie wprzód: Idziemy do lekarza z pewnymi symptomami (ból żołądka). Lekarz stawia diagnozę (zatrucie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561"/>
              </a:spcBef>
              <a:buClr>
                <a:srgbClr val="336699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nioskowanie wstecz: Lekarz pyta, czy pacjent jadł nieświeżą żywność wiedząc, że może ona powodować ból żołądk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14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80B8-32AB-4D2E-BDFD-03C7E8C7B78C}" type="slidenum">
              <a:t>13</a:t>
            </a:fld>
          </a:p>
        </p:txBody>
      </p:sp>
    </p:spTree>
  </p:cSld>
  <p:transition spd="med">
    <p:pull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Inferencja - wnioskowanie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Clr>
                <a:srgbClr val="336699"/>
              </a:buClr>
              <a:buFont typeface="Wingdings" charset="2"/>
              <a:buChar char="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Przykładowa baza wiedzy systemu rozmyteg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None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None/>
              <a:tabLst>
                <a:tab algn="l" pos="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None/>
              <a:tabLst>
                <a:tab algn="l" pos="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499"/>
              </a:spcAft>
              <a:buClr>
                <a:srgbClr val="336699"/>
              </a:buClr>
              <a:buFont typeface="Wingdings" charset="2"/>
              <a:buChar char="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Zbiory wejścia: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Zbiory rozmyte wyjścia: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Arial"/>
              </a:rPr>
              <a:t>1,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– mały, B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Arial"/>
              </a:rPr>
              <a:t>2,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– duży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mały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średni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uży.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49960" y="4570560"/>
            <a:ext cx="2533680" cy="1780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54120" y="4735440"/>
            <a:ext cx="3695760" cy="1552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846440" y="2021040"/>
            <a:ext cx="5371920" cy="179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D5C8-E578-4236-BAB2-4F3F751E89B9}" type="slidenum">
              <a:t>14</a:t>
            </a:fld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Niespójność bazy wiedzy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Clr>
                <a:srgbClr val="336699"/>
              </a:buClr>
              <a:buFont typeface="Wingdings" charset="2"/>
              <a:buChar char="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Rodzaje niespójnoś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admiarowoś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336699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guły posiadające te same konkluzje i przesłank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okrywani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336699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guły, których konkluzje są identyczne, lecz przesłanki jednej z reguł zawierają przesłanki innej reguł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przecznoś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336699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guły o identycznych konkluzjach, różniące się przesłankam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02D0-A116-43FC-9F93-2FB63A876814}" type="slidenum">
              <a:t>15</a:t>
            </a:fld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Niespójność bazy wiedzy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Clr>
                <a:srgbClr val="336699"/>
              </a:buClr>
              <a:buFont typeface="Wingdings" charset="2"/>
              <a:buChar char="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Eliminowanie niespójnoś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leży określić, która z reguł ma zostać usunię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ryterium polega na sprawdzeniu ważności reguł i usunięciu tej, która posiada mniejszy współczynnik wagowy przesłanek (ASW) i konkluzji (CSW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336699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Jeżeli (ASW1, CSW1)    (ASW2, CSW2), to reguła R1 jest ważniejsza od reguły R2. Reguła R2 powinna zostać usunięt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336699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Jeżeli (ASW2, CSW2)    (ASW1, CSW1), to usunięta powinna zostać reguła R1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336699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przypadku niejednoznaczności, decyzja o usunięciu należy do użytkownik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227480" y="3697200"/>
            <a:ext cx="204840" cy="204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214880" y="4599000"/>
            <a:ext cx="204840" cy="204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C116-6147-46A0-801C-A2B8E3BD20A6}" type="slidenum">
              <a:t>16</a:t>
            </a:fld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Cechy dobrej bazy wiedzy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Clr>
                <a:srgbClr val="336699"/>
              </a:buClr>
              <a:buFont typeface="Wingdings" charset="2"/>
              <a:buChar char="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Zasada „3C”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ompletność (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complete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336699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leży uwzględnić wszystkie możliwe przypadk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336699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F a&gt;0 THEN b&gt;0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F a=0 THEN b&lt;0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co jeśli a&lt;0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pójność (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consistency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336699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guły nie powinny być ze sobą sprzeczn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336699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F a&gt;0 THEN b&gt;0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F a&gt;0 THEN b=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więzłość (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concise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336699"/>
              </a:buClr>
              <a:buFont typeface="Arial"/>
              <a:buChar char="–"/>
              <a:tabLst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leży unikać nadmiarowości regu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3E16-C86F-4BB0-93EF-7638ACD5EE6C}" type="slidenum">
              <a:t>17</a:t>
            </a:fld>
          </a:p>
        </p:txBody>
      </p:sp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Defuzyfikacja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ając daną funkcję </a:t>
            </a:r>
            <a:r>
              <a:rPr b="0" lang="pl-PL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l-PL" sz="2600" spc="-1" strike="noStrike" baseline="-25000">
                <a:solidFill>
                  <a:srgbClr val="000000"/>
                </a:solidFill>
                <a:latin typeface="Arial"/>
              </a:rPr>
              <a:t>wyn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(y), system może obliczyć ostrą wartość wyjściową y*. Operację tą realizuje blok DEFUZYFIKACJA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Metody defuzyfikacji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etoda środka maksim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etoda pierwszego maksim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etoda ostatniego maksim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etoda środka ciężkośc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etoda wysokości (singletonów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033F-EB5A-4B6B-B8A9-B413F98ABD48}" type="slidenum">
              <a:t>18</a:t>
            </a:fld>
          </a:p>
        </p:txBody>
      </p:sp>
    </p:spTree>
  </p:cSld>
  <p:transition spd="med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Defuzyfikacja</a:t>
            </a:r>
            <a:br>
              <a:rPr sz="3000"/>
            </a:b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Metoda środka maksimum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3880" y="4876560"/>
            <a:ext cx="3149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y=0.5(y1*+y2*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041560" y="1998720"/>
            <a:ext cx="4815000" cy="2681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55760" y="3556080"/>
            <a:ext cx="822960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700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F490-CAC2-41E0-B245-29C95CFB08AE}" type="slidenum">
              <a:t>19</a:t>
            </a:fld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43000" y="760320"/>
            <a:ext cx="5514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 Black"/>
              </a:rPr>
              <a:t>Plan prezentacji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5760" y="2037960"/>
            <a:ext cx="866772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Zbiory rozmyte i operacje na zbiorac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Wnioskowani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bliczanie współczynników pewnośc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Systemy rozmy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uzyfikacja (rozmywani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guły rozmyte – wnioskowani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aza wiedz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fuzyfikacja (obliczanie ostrej wartości wyjściowe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tosowane rozwiązan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F952-9F2D-4874-A822-9DB73C05A38D}" type="slidenum">
              <a:t>2</a:t>
            </a:fld>
          </a:p>
        </p:txBody>
      </p:sp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Defuzyfikacja</a:t>
            </a:r>
            <a:br>
              <a:rPr sz="3000"/>
            </a:b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Metoda środka maksimum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Zalety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stota obliczeniowa ułatwiająca zastosowanie tańszych elementów w układzie sterowan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5760" y="3073320"/>
            <a:ext cx="82296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Wady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 wynik metody wpływa tylko ten zbiór rozmyty, który jest najbardziej zaktywizow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 wynik w postaci ostrej wartości wyjściowej y* mają wpływ tylko te reguły bazy reguł, które mają ten zbiór w swojej konkluz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814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efuzyfikacja staje się "niedemokratyczna", bowiem nie wszystkie reguły biorą udział w "głosowaniu".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07D2-C43A-41F8-A210-624B8CD8ED73}" type="slidenum">
              <a:t>20</a:t>
            </a:fld>
          </a:p>
        </p:txBody>
      </p:sp>
    </p:spTree>
  </p:cSld>
  <p:transition spd="med">
    <p:pull dir="l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Defuzyfikacja</a:t>
            </a:r>
            <a:br>
              <a:rPr sz="3000"/>
            </a:b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 Metoda środka maksimum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Ilustracja wad metody środka maksimum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08040" y="2641680"/>
            <a:ext cx="7872480" cy="26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9856-5179-4261-8058-BC3A7A1BE910}" type="slidenum">
              <a:t>21</a:t>
            </a:fld>
          </a:p>
        </p:txBody>
      </p:sp>
    </p:spTree>
  </p:cSld>
  <p:transition spd="med"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Defuzyfikacja</a:t>
            </a:r>
            <a:br>
              <a:rPr sz="3000"/>
            </a:b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 Metoda pierwszego maksimum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Defuzyfikacja metodą pierwszego maksimum y*=y</a:t>
            </a:r>
            <a:r>
              <a:rPr b="1" lang="pl-PL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860480" y="2727360"/>
            <a:ext cx="5624640" cy="291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E95B-FC16-4E69-953B-9CAD9C01D126}" type="slidenum">
              <a:t>22</a:t>
            </a:fld>
          </a:p>
        </p:txBody>
      </p:sp>
    </p:spTree>
  </p:cSld>
  <p:transition spd="med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Defuzyfikacja</a:t>
            </a:r>
            <a:br>
              <a:rPr sz="3000"/>
            </a:b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 Metoda pierwszego maksimum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Zalety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ły nakład obliczeniow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iększa (względem metody średniego maksimum) czułość na zmiany stopnia aktywizacji konkluzji reguł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5760" y="3606840"/>
            <a:ext cx="822960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Wady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ciągłoś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względnianie w procesie defuzyfikacji tylko jednego, najbardziej zaktywizowanego zbioru.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6416-7169-47DD-B224-55A48D42234E}" type="slidenum">
              <a:t>23</a:t>
            </a:fld>
          </a:p>
        </p:txBody>
      </p:sp>
    </p:spTree>
  </p:cSld>
  <p:transition spd="med">
    <p:pull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Defuzyfikacja</a:t>
            </a:r>
            <a:br>
              <a:rPr sz="3000"/>
            </a:b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 Metoda ostatniego maksimum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Defuzyfikacja metodą ostatniego maksimum y*=y</a:t>
            </a:r>
            <a:r>
              <a:rPr b="1" lang="pl-PL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814400" y="2755800"/>
            <a:ext cx="5624640" cy="291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0154-6D4D-4956-8555-52D61573F933}" type="slidenum">
              <a:t>24</a:t>
            </a:fld>
          </a:p>
        </p:txBody>
      </p:sp>
    </p:spTree>
  </p:cSld>
  <p:transition spd="med"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Defuzyfikacja</a:t>
            </a:r>
            <a:br>
              <a:rPr sz="3000"/>
            </a:b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 Metoda ostatniego maksimum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41280" indent="-341280">
              <a:lnSpc>
                <a:spcPct val="80000"/>
              </a:lnSpc>
              <a:spcBef>
                <a:spcPts val="814"/>
              </a:spcBef>
              <a:spcAft>
                <a:spcPts val="649"/>
              </a:spcAft>
              <a:buClr>
                <a:srgbClr val="336699"/>
              </a:buClr>
              <a:buFont typeface="Wingdings" charset="2"/>
              <a:buChar char="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Zalety i wady -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akie same jak przy metodzie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ierwszego maksimum,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814"/>
              </a:spcBef>
              <a:spcAft>
                <a:spcPts val="649"/>
              </a:spcAft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Dodatkowa wada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274320">
              <a:lnSpc>
                <a:spcPct val="8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przypadku, gdy aktywizacja zbioru 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(decydującego o y*) maleje, a zbioru 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rośnie, wartość y*=y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powinna zbliżać się do maksymalnej wartości y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m1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zbioru 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443400" y="4119480"/>
            <a:ext cx="2354040" cy="224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5E3B-B6D2-4AC5-96D4-8B2948CBF3E9}" type="slidenum">
              <a:t>25</a:t>
            </a:fld>
          </a:p>
        </p:txBody>
      </p:sp>
    </p:spTree>
  </p:cSld>
  <p:transition spd="med">
    <p:pull dir="l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Defuzyfikacja</a:t>
            </a:r>
            <a:br>
              <a:rPr sz="3000"/>
            </a:b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 Metoda środka ciężkości 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Defuzyfikacja metodą środka ciężkości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344600" y="2419200"/>
            <a:ext cx="3184560" cy="3062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059440" y="3319560"/>
            <a:ext cx="2835360" cy="115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2BAF-877E-4250-96D1-FA5037D46E67}" type="slidenum">
              <a:t>26</a:t>
            </a:fld>
          </a:p>
        </p:txBody>
      </p:sp>
    </p:spTree>
  </p:cSld>
  <p:transition spd="med">
    <p:pull dir="l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Defuzyfikacja</a:t>
            </a:r>
            <a:br>
              <a:rPr sz="3000"/>
            </a:b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 Metoda środka ciężkości 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Zalety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e wnioskowaniu biorą udział wszystkie zaktywizowane funkcje przynależnośc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większona czułość na zmiany wejść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5760" y="3360600"/>
            <a:ext cx="8229600" cy="26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Wady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uża ilość skomplikowanych oblicze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wężenie zakresu defuzyfik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czułość w przypadku aktywizacji tylko jednej funkcji przynależności wyjś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mniejszenie czułości przy dużym zróżnicowaniu wielkości nośników zbiorów wyjści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862C-E4D2-4353-91CA-86D292092CAF}" type="slidenum">
              <a:t>27</a:t>
            </a:fld>
          </a:p>
        </p:txBody>
      </p:sp>
    </p:spTree>
  </p:cSld>
  <p:transition spd="med">
    <p:pull dir="l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Defuzyfikacja</a:t>
            </a:r>
            <a:br>
              <a:rPr sz="3000"/>
            </a:b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 Metoda środka ciężkości 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Ilustracja upraszczania metody środka ciężkośc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514680" y="2592360"/>
            <a:ext cx="3382920" cy="31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0E23-A114-41B3-A5A3-2DDFB1EEB840}" type="slidenum">
              <a:t>28</a:t>
            </a:fld>
          </a:p>
        </p:txBody>
      </p:sp>
    </p:spTree>
  </p:cSld>
  <p:transition spd="med">
    <p:pull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Defuzyfikacja</a:t>
            </a:r>
            <a:br>
              <a:rPr sz="3000"/>
            </a:b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 Metoda środka ciężkości 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awężenie zakresu defuzyfikacji w pierwotnej metodzie środka ciężkości (a) i usunięcie tej wady w rozszerzonej wersji metody (b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51040" y="2797200"/>
            <a:ext cx="7572240" cy="28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4E03-3880-4549-BC1A-DB6E0F045FDE}" type="slidenum">
              <a:t>29</a:t>
            </a:fld>
          </a:p>
        </p:txBody>
      </p:sp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Zbiory klasyczne i rozmyte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7680" y="1668600"/>
            <a:ext cx="7905600" cy="1971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2680" y="3975120"/>
            <a:ext cx="812484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CB97-6977-46CE-8797-C9526DF2AA9B}" type="slidenum">
              <a:t>3</a:t>
            </a:fld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Defuzyfikacja</a:t>
            </a:r>
            <a:br>
              <a:rPr sz="3000"/>
            </a:b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 Metoda środka ciężkości 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Metoda środka ciężkości przy aktywizacji tylko jednego zbioru rozmytego C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(y)  wyjścia modelu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835280" y="2851200"/>
            <a:ext cx="5715000" cy="28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C014-5F01-466D-8575-FCE1E2E0A7AC}" type="slidenum">
              <a:t>30</a:t>
            </a:fld>
          </a:p>
        </p:txBody>
      </p:sp>
    </p:spTree>
  </p:cSld>
  <p:transition spd="med">
    <p:pull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Defuzyfikacja</a:t>
            </a:r>
            <a:br>
              <a:rPr sz="3000"/>
            </a:b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 Metoda środka ciężkości 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Ilustracja małego wpływu zmiany stopnia aktywizacji zbiorów wyjściowych C1 i C2 na wynik defuzyfikacj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73120" y="2871720"/>
            <a:ext cx="641376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AF78-7201-4836-9D2E-B9DD3AF1FC29}" type="slidenum">
              <a:t>31</a:t>
            </a:fld>
          </a:p>
        </p:txBody>
      </p:sp>
    </p:spTree>
  </p:cSld>
  <p:transition spd="med">
    <p:pull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Defuzyfikacja</a:t>
            </a:r>
            <a:br>
              <a:rPr sz="3000"/>
            </a:b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 Metoda wysokości 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Zastępowanie zbiorów rozmytych zbiorami jednoelementowymi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420920" y="2657520"/>
            <a:ext cx="4024080" cy="3125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931000" y="3138480"/>
            <a:ext cx="2962080" cy="280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D525-A770-4AD7-B61A-6EDA7EA3A871}" type="slidenum">
              <a:t>32</a:t>
            </a:fld>
          </a:p>
        </p:txBody>
      </p:sp>
    </p:spTree>
  </p:cSld>
  <p:transition spd="med">
    <p:pull dir="l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Defuzyfikacja</a:t>
            </a:r>
            <a:br>
              <a:rPr sz="3000"/>
            </a:b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 Metoda wysokości 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Zalety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naczne zmniejszenie ilości obliczeń w porównaniu z metodą środka ciężkośc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iągłoś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uża czułoś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Często stosowana w modelowaniu i sterowaniu rozmytym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8385-64BA-42C7-BC7E-2A4DBCCE9C96}" type="slidenum">
              <a:t>33</a:t>
            </a:fld>
          </a:p>
        </p:txBody>
      </p:sp>
    </p:spTree>
  </p:cSld>
  <p:transition spd="med">
    <p:pull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Podsumowanie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Logika rozmyta zapewnia alternatywny sposób sterowania oraz klasyfikacj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adaje się do układów, dla których nie istnieje prosty model matematyczny oraz dla procesów wysoce nieliniowyc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Do sformułowania bazy reguł wymagane jest posiadanie odpowiedniej wiedz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3F08-C0C3-4226-AB61-4E39A795D2AC}" type="slidenum">
              <a:t>34</a:t>
            </a:fld>
          </a:p>
        </p:txBody>
      </p:sp>
    </p:spTree>
  </p:cSld>
  <p:transition spd="med">
    <p:pull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Zastosowania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Sterowanie systemów liniowych i nieliniowyc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Rozpoznawanie wzorców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Systemy finansow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Badania operacyj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Analiza danyc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3054-C74A-4C5E-81AA-F45210377E4B}" type="slidenum">
              <a:t>35</a:t>
            </a:fld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Zbiór rozmyty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Funkcja przynależności zbioru rozmytego może przyjmować dowolne wartości ze zbioru &lt;0, 1&gt;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ozwala na dokładniejsze odwzorowanie pojęć stosowanych przez ludzi, które często są subiektywne i nieprecyzyjne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03320" y="3755880"/>
            <a:ext cx="49053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DAC9-1096-4F98-97C2-7984DAC05B4E}" type="slidenum">
              <a:t>4</a:t>
            </a:fld>
          </a:p>
        </p:txBody>
      </p:sp>
    </p:spTree>
  </p:cSld>
  <p:transition spd="med"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Operacje na zbiorach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Clr>
                <a:srgbClr val="336699"/>
              </a:buClr>
              <a:buFont typeface="Wingdings" charset="2"/>
              <a:buChar char=""/>
              <a:tabLst>
                <a:tab algn="l" pos="3143160"/>
                <a:tab algn="l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Logika standardowa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None/>
              <a:tabLst>
                <a:tab algn="l" pos="0"/>
                <a:tab algn="l" pos="3143160"/>
                <a:tab algn="l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22160" y="2984400"/>
            <a:ext cx="2040120" cy="2556000"/>
            <a:chOff x="722160" y="2984400"/>
            <a:chExt cx="2040120" cy="255600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722160" y="4059360"/>
              <a:ext cx="204012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1064880" y="2984400"/>
              <a:ext cx="13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2400" spc="-1" strike="noStrike">
                  <a:solidFill>
                    <a:srgbClr val="000000"/>
                  </a:solidFill>
                  <a:latin typeface="Arial"/>
                </a:rPr>
                <a:t>Negacj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146400" y="2987640"/>
            <a:ext cx="2476440" cy="2490840"/>
            <a:chOff x="3146400" y="2987640"/>
            <a:chExt cx="2476440" cy="2490840"/>
          </a:xfrm>
        </p:grpSpPr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3146400" y="3957480"/>
              <a:ext cx="2476440" cy="15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870720" y="2987640"/>
              <a:ext cx="100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24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875200" y="2987640"/>
            <a:ext cx="2516400" cy="2403360"/>
            <a:chOff x="5875200" y="2987640"/>
            <a:chExt cx="2516400" cy="2403360"/>
          </a:xfrm>
        </p:grpSpPr>
        <p:pic>
          <p:nvPicPr>
            <p:cNvPr id="66" name="" descr=""/>
            <p:cNvPicPr/>
            <p:nvPr/>
          </p:nvPicPr>
          <p:blipFill>
            <a:blip r:embed="rId3"/>
            <a:stretch/>
          </p:blipFill>
          <p:spPr>
            <a:xfrm>
              <a:off x="5875200" y="3957480"/>
              <a:ext cx="251640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290640" y="2987640"/>
              <a:ext cx="167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2400" spc="-1" strike="noStrike">
                  <a:solidFill>
                    <a:srgbClr val="000000"/>
                  </a:solidFill>
                  <a:latin typeface="Arial"/>
                </a:rPr>
                <a:t>Iloczy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AAC3-70A0-427B-BF48-50E2B1572149}" type="slidenum">
              <a:t>5</a:t>
            </a:fld>
          </a:p>
        </p:txBody>
      </p:sp>
    </p:spTree>
  </p:cSld>
  <p:transition spd="med">
    <p:pull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Operacje na zbiorach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"/>
          <p:cNvSpPr/>
          <p:nvPr/>
        </p:nvSpPr>
        <p:spPr>
          <a:xfrm>
            <a:off x="455760" y="1600200"/>
            <a:ext cx="8229600" cy="45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Clr>
                <a:srgbClr val="336699"/>
              </a:buClr>
              <a:buFont typeface="Wingdings" charset="2"/>
              <a:buChar char=""/>
              <a:tabLst>
                <a:tab algn="l" pos="3143160"/>
                <a:tab algn="l" pos="5467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Logika rozmy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0" y="2984400"/>
            <a:ext cx="2943360" cy="2678040"/>
            <a:chOff x="0" y="2984400"/>
            <a:chExt cx="2943360" cy="2678040"/>
          </a:xfrm>
        </p:grpSpPr>
        <p:sp>
          <p:nvSpPr>
            <p:cNvPr id="71" name=""/>
            <p:cNvSpPr/>
            <p:nvPr/>
          </p:nvSpPr>
          <p:spPr>
            <a:xfrm>
              <a:off x="507600" y="2984400"/>
              <a:ext cx="190728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2400" spc="-1" strike="noStrike">
                  <a:solidFill>
                    <a:srgbClr val="000000"/>
                  </a:solidFill>
                  <a:latin typeface="Arial"/>
                </a:rPr>
                <a:t>Dopełnien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Not(A)=1-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0" y="3957480"/>
              <a:ext cx="2943360" cy="170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"/>
          <p:cNvGrpSpPr/>
          <p:nvPr/>
        </p:nvGrpSpPr>
        <p:grpSpPr>
          <a:xfrm>
            <a:off x="2878200" y="2987640"/>
            <a:ext cx="3133800" cy="2674800"/>
            <a:chOff x="2878200" y="2987640"/>
            <a:chExt cx="3133800" cy="2674800"/>
          </a:xfrm>
        </p:grpSpPr>
        <p:sp>
          <p:nvSpPr>
            <p:cNvPr id="74" name=""/>
            <p:cNvSpPr/>
            <p:nvPr/>
          </p:nvSpPr>
          <p:spPr>
            <a:xfrm>
              <a:off x="3600000" y="2987640"/>
              <a:ext cx="18403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24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pl-P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 B =min (A,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2878200" y="3957480"/>
              <a:ext cx="3133800" cy="170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"/>
          <p:cNvGrpSpPr/>
          <p:nvPr/>
        </p:nvGrpSpPr>
        <p:grpSpPr>
          <a:xfrm>
            <a:off x="5824440" y="2987640"/>
            <a:ext cx="3133800" cy="2674800"/>
            <a:chOff x="5824440" y="2987640"/>
            <a:chExt cx="3133800" cy="2674800"/>
          </a:xfrm>
        </p:grpSpPr>
        <p:pic>
          <p:nvPicPr>
            <p:cNvPr id="77" name="" descr=""/>
            <p:cNvPicPr/>
            <p:nvPr/>
          </p:nvPicPr>
          <p:blipFill>
            <a:blip r:embed="rId3"/>
            <a:stretch/>
          </p:blipFill>
          <p:spPr>
            <a:xfrm>
              <a:off x="5824440" y="3957480"/>
              <a:ext cx="3133800" cy="17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6549480" y="2987640"/>
              <a:ext cx="19044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2400" spc="-1" strike="noStrike">
                  <a:solidFill>
                    <a:srgbClr val="000000"/>
                  </a:solidFill>
                  <a:latin typeface="Arial"/>
                </a:rPr>
                <a:t>Iloczy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pl-P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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 B =max (A,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D3F0-6696-45B2-B879-15FB23784F4C}" type="slidenum">
              <a:t>6</a:t>
            </a:fld>
          </a:p>
        </p:txBody>
      </p:sp>
    </p:spTree>
  </p:cSld>
  <p:transition spd="med">
    <p:pull dir="l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Wartości lingwistyczne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Wartości lingwistyczne i odpowiadające im zbiory rozmyte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22640" y="2816280"/>
            <a:ext cx="5002200" cy="289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D7F5-7EE9-46E5-AC89-4E5A8C0A162D}" type="slidenum">
              <a:t>7</a:t>
            </a:fld>
          </a:p>
        </p:txBody>
      </p:sp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Wnioskowanie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649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Podstawowa relacja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JEŚLI 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jest prawdą I 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jest prawdą, to 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jest prawd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spółczynnik pewności tego zdania może być równy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305000" y="3321000"/>
          <a:ext cx="5156280" cy="299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5000" y="3321000"/>
                    <a:ext cx="5156280" cy="29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C789-B461-4798-A34C-9C956B804ED1}" type="slidenum">
              <a:t>8</a:t>
            </a:fld>
          </a:p>
        </p:txBody>
      </p:sp>
    </p:spTree>
  </p:cSld>
  <p:transition spd="med">
    <p:pull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63720" y="0"/>
            <a:ext cx="7510320" cy="59929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Black"/>
              </a:rPr>
              <a:t>Wnioskowanie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zykła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JEŚLI 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</a:rPr>
              <a:t>poziom usługi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LUB 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</a:rPr>
              <a:t>smak jedzenia,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</a:rPr>
              <a:t> napiwe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30160" y="3319560"/>
            <a:ext cx="6099120" cy="26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0F1B-1847-47E4-A2D4-DEBDF475248C}" type="slidenum">
              <a:t>9</a:t>
            </a:fld>
          </a:p>
        </p:txBody>
      </p:sp>
    </p:spTree>
  </p:cSld>
  <p:transition spd="med">
    <p:pull dir="l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indefinite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8T14:48:56Z</dcterms:created>
  <dc:creator>lucidon</dc:creator>
  <dc:description/>
  <dc:language>en-US</dc:language>
  <cp:lastModifiedBy>Wódz</cp:lastModifiedBy>
  <dcterms:modified xsi:type="dcterms:W3CDTF">2004-12-20T14:05:09Z</dcterms:modified>
  <cp:revision>524</cp:revision>
  <dc:subject/>
  <dc:title>PowerPoint Presentation</dc:title>
</cp:coreProperties>
</file>