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8FED-4F2C-4BDD-834B-2FFC81896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5DC-167D-4282-9344-35B86D0D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265D-023D-46CA-8ADD-AA14DA7B3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DD2C-0746-4C91-812D-E80B1048C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FB91-7748-4E6B-9661-9C3546DA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1063-CBD6-435D-A63C-B403C64B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0568-2BFA-4743-9B5A-E43D42DD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BD0A-2CF9-4ACB-84A0-C3FBAE5A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8B42-71F4-4042-B5EB-A1F91AA1B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2E22-ABB8-4C99-A540-32B26455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2BF5-4A5B-4F72-BDCB-51CEB435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535D-A943-4456-9EFA-2232DC748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F06F4-B328-4398-A6EF-71A4CFDBB43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entury Gothic"/>
              </a:rPr>
              <a:t>Programy Fundacji w ramach działania 1.2 PO IG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Team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Międzynarodowe Projekty Doktoranck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Welcom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8000"/>
                </a:solidFill>
                <a:latin typeface="Century Gothic"/>
              </a:rPr>
              <a:t>Program Tea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Koordynator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Beata Frącza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entury Gothic"/>
              </a:rPr>
              <a:t>tel. (022) 424 02 26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e-mail: beata.fraczak@fnp.org.p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Obraz 5" descr="renata.bilewicz2_po_kompresji.jpg"/>
          <p:cNvPicPr/>
          <p:nvPr/>
        </p:nvPicPr>
        <p:blipFill>
          <a:blip r:embed="rId1"/>
          <a:stretch/>
        </p:blipFill>
        <p:spPr>
          <a:xfrm>
            <a:off x="1566720" y="920880"/>
            <a:ext cx="4724640" cy="38955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2"/>
          <p:cNvSpPr/>
          <p:nvPr/>
        </p:nvSpPr>
        <p:spPr>
          <a:xfrm>
            <a:off x="250920" y="214200"/>
            <a:ext cx="6192720" cy="1214640"/>
          </a:xfrm>
          <a:prstGeom prst="rect">
            <a:avLst/>
          </a:prstGeom>
          <a:solidFill>
            <a:srgbClr val="bbe0e3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iędzynarodowe Projekty Doktoranc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0" y="4571640"/>
            <a:ext cx="9144000" cy="1500120"/>
          </a:xfrm>
          <a:prstGeom prst="rect">
            <a:avLst/>
          </a:prstGeom>
          <a:gradFill rotWithShape="0">
            <a:gsLst>
              <a:gs pos="0">
                <a:srgbClr val="808080">
                  <a:alpha val="70196"/>
                </a:srgbClr>
              </a:gs>
              <a:gs pos="100000">
                <a:srgbClr val="3b3b3b">
                  <a:alpha val="7137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600" spc="-1" strike="noStrike">
                <a:solidFill>
                  <a:srgbClr val="ffffff"/>
                </a:solidFill>
                <a:latin typeface="Wunderlich Italic"/>
              </a:rPr>
              <a:t>Wsparcie projektów realizowanych przez uczestników</a:t>
            </a:r>
            <a:r>
              <a:rPr b="1" lang="pl-PL" sz="2600" spc="-1" strike="noStrike">
                <a:solidFill>
                  <a:srgbClr val="002060"/>
                </a:solidFill>
                <a:latin typeface="Wunderlich Italic"/>
              </a:rPr>
              <a:t> </a:t>
            </a:r>
            <a:r>
              <a:rPr b="1" lang="pl-PL" sz="2600" spc="-1" strike="noStrike">
                <a:solidFill>
                  <a:srgbClr val="ff8000"/>
                </a:solidFill>
                <a:latin typeface="Wunderlich Italic"/>
              </a:rPr>
              <a:t>studiów doktoranckich</a:t>
            </a:r>
            <a:r>
              <a:rPr b="1" lang="pl-PL" sz="2600" spc="-1" strike="noStrike">
                <a:solidFill>
                  <a:srgbClr val="ffffff"/>
                </a:solidFill>
                <a:latin typeface="Wunderlich Italic"/>
              </a:rPr>
              <a:t> prowadzonych we współpracy z jednostką </a:t>
            </a:r>
            <a:r>
              <a:rPr b="1" lang="pl-PL" sz="2800" spc="-1" strike="noStrike">
                <a:solidFill>
                  <a:srgbClr val="ffffff"/>
                </a:solidFill>
                <a:latin typeface="Wunderlich Italic"/>
              </a:rPr>
              <a:t>zagraniczn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2999-2833-4BF5-B273-1C2E90782F8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mająca prawo nadawania stopni doktora, która prowadzi lub planuje prowadzić projekty doktoranckie w ramach międzynarodowych konsorcjów naukowyc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W projekcie musi uczestniczyć co najmniej 10 doktorantów po stronie polskiej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Okres realizacji projektu: 4 - 5 la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Projekty z dowolnych dziedzin nauki</a:t>
            </a: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(w przypadku porównywalnej wartości projektów preferowane będą te z dziedzin określonych jako bio, info, techn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 podczas pobytu w Polsce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4 5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doktoranta podczas stażu zagranicznego (od 6 do 24 miesięc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 za każdego doktora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nagrodzenia pracowników naukowych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amortyzacj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posażenie laboratoryjn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teriały, surowce, oprogramowani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usługi badawcze i ekspertyzy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ostęp do źródeł informacji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ochrona patentow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… cd.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datki związane z prowadzeniem naboru do zespołu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elegacje krajowe o wymiana międzynarodow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 wniosków 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mpd0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– jeden konkurs w rok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6 marca 200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wota środków przeznaczonych na konkurs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20 000 000 PL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8000"/>
                </a:solidFill>
                <a:latin typeface="Century Gothic"/>
              </a:rPr>
              <a:t>Program MPD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Koordynator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Jakub Witkowsk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entury Gothic"/>
              </a:rPr>
              <a:t>tel. (022) 423 14 06 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e-mail: jakub.witkowski@fnp.org.p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14520" y="1928520"/>
            <a:ext cx="46069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sparcie udzielane polskim jednostkom naukowym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celu umożliwienia im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trudnienia wybitnych uczonych z zagranicy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i zaangażowania ich w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worzenie zespołów naukowych z udziałem młodych naukowc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14200" y="571680"/>
            <a:ext cx="6193080" cy="1008000"/>
          </a:xfrm>
          <a:prstGeom prst="rect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-6480" y="2279520"/>
            <a:ext cx="2657520" cy="39751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241452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E778-8E25-4D32-BF3B-6AA61DFC243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642920" y="1785600"/>
            <a:ext cx="392436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Zwiększenie zaangażowania </a:t>
            </a:r>
            <a:r>
              <a:rPr b="1" lang="pl-PL" sz="2800" spc="-1" strike="noStrike">
                <a:solidFill>
                  <a:srgbClr val="ff8000"/>
                </a:solidFill>
                <a:latin typeface="Wunderlich Italic"/>
              </a:rPr>
              <a:t>młodych uczonych</a:t>
            </a: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w prace badawcze realizowane  </a:t>
            </a:r>
            <a:br>
              <a:rPr sz="2800"/>
            </a:b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w najlepszych zespołach i laboratoriach naukowych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6" name="Picture 6" descr="C:\Users\fraczak\Desktop\ZDJĘCIA_ULOTKA\ZDJĘCIA_DO_WYKORZYSTANIA\ZDJĘCIA_DO_ULOTKI\barbara.klajnert1_po_kompresji.jpg"/>
          <p:cNvPicPr/>
          <p:nvPr/>
        </p:nvPicPr>
        <p:blipFill>
          <a:blip r:embed="rId1"/>
          <a:stretch/>
        </p:blipFill>
        <p:spPr>
          <a:xfrm>
            <a:off x="353880" y="1779480"/>
            <a:ext cx="419436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53FA-0A8D-4BDE-97BB-CB1AE54B9F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 – uczonym z zagranic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polski naukowiec, który pracuje za granicą co najmniej 2 lata i zamierza wrócić do Polski lub wrócił nie wcześniej niż 2 lata przed upływem terminu składania wniosków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490D-E5D4-4AD0-91D6-5961683D13E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…cd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zagraniczny naukowiec, który posiada co najmniej stopień naukowy doktora i planuje przyjazd do Polski, bądź prowadzi zespół w Polsce nie dłużej niż  5 la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skład zespołu badawczego wchodzą młodzi naukowcy : studenci, doktoranci i młodzi doktorz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3 - 5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la kierownika zespołu – do 200 do 350 tys. PLN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mln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4" dur="5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nagrodzenia pracowników naukowych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amortyzacj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posażenie laboratoryjn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teriały, surowce, oprogramowani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usługi badawcze i ekspertyzy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ostęp do źródeł informacji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ochrona patentow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1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6" dur="5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… cd.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datki związane z prowadzeniem naboru do zespołu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elegacje krajowe o wymiana międzynarodow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 wniosków 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welcom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konkursy raz w rok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5 kwiet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wota środków przeznaczonych na konkurs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23 000 000 PL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5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7" dur="5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59A7-5CDB-41FB-8D93-DDAD4D5603C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85480" y="1312560"/>
            <a:ext cx="8643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57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Wunderlich Italic"/>
              </a:rPr>
              <a:t>Kryteria oceny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wartość naukowa projektu badawczeg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kierownika zespołu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oziom naukowy 5 najważniejszych publikacji lub patentów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jednostki goszczącej,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rocedury wyboru młodych naukowców do pracy w zespole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kres współpracy międzynarodowej zespołu w ramach projektu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sadność i efektywność budżetu projektu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WELCOM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-360" y="135684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219680" indent="-44316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9680" indent="-44316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Etapy oceny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63200" indent="-44316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underlich Ital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cena formaln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63200" indent="-44316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underlich Ital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cena merytoryczna  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- recenzj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63200" indent="-44316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Wunderlich Italic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rozmowa kwalifikacyjna </a:t>
            </a:r>
            <a:br>
              <a:rPr sz="2800"/>
            </a:br>
            <a:r>
              <a:rPr b="0" i="1" lang="pl-PL" sz="2400" spc="-1" strike="noStrike">
                <a:solidFill>
                  <a:srgbClr val="002060"/>
                </a:solidFill>
                <a:latin typeface="Wunderlich Italic"/>
              </a:rPr>
              <a:t>(w ostatnim miesiącu oceny)</a:t>
            </a: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 oraz wizyta w jednostce, w której projekt ma być realizowan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63200" indent="-44316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88000" indent="-36972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ymbol zastępczy numeru slajd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5235-EEC8-411F-A8D0-78296B3CC8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8000"/>
                </a:solidFill>
                <a:latin typeface="Century Gothic"/>
              </a:rPr>
              <a:t>Program Welcom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Koordynator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Kinga Słomińsk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entury Gothic"/>
              </a:rPr>
              <a:t>tel. (022) 424 02 5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entury Gothic"/>
              </a:rPr>
              <a:t>e-mail: kinga.slominska@fnp.org.p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1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6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A00E9-C450-4C84-8B51-13D38A0D40F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Kierownikiem projektu może być uczony, którzy zamierzają zatrudnić w  swoim zespole młodych uczonych : studentów, doktorantów i młodych doktor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2 - 4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 za każdego doktoranta oraz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 za każdego postdo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nagrodzenia pracowników naukowych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amortyzacj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posażenie laboratoryjn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teriały, surowce, oprogramowanie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usługi badawcze i ekspertyzy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ostęp do źródeł informacji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ochrona patentow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… cd.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datki związane z prowadzeniem naboru do zespołu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elegacje krajowe o wymiana międzynarodowa,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 wniosków 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team0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konkursy dwa razy w rok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6 marca i 30 wrześ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wota środków przeznaczonych na konkurs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5 500 000 PL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B113-5194-4C89-AA73-E726829C911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204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dorobek badawczy lub wdrożeniowy kierownika zespołu (ostatnie 4 lata)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wartości naukowe lub innowacyjne przedstawionych programów w zespole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zasadność planowanej liczebności zespołu względem przedstawionego programu badawcz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procedury wyboru młodych naukowców do pracy w zespole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zakres współpracy międzynarodowej zespołu w ramach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-3502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zasadność i efektywność budżetu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9803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1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Etapy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1980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7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7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700" spc="-1" strike="noStrike">
                <a:solidFill>
                  <a:srgbClr val="002060"/>
                </a:solidFill>
                <a:latin typeface="Wunderlich Italic"/>
              </a:rPr>
              <a:t>- 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980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- ocena merytoryczna - recenzj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19803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Wunderlich Italic"/>
              </a:rPr>
              <a:t>- 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7076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8:05:26Z</dcterms:created>
  <dc:creator>Jakub Wojnarowski</dc:creator>
  <dc:description/>
  <dc:language>en-US</dc:language>
  <cp:lastModifiedBy>Adam Zieliński</cp:lastModifiedBy>
  <dcterms:modified xsi:type="dcterms:W3CDTF">2009-03-23T11:30:02Z</dcterms:modified>
  <cp:revision>629</cp:revision>
  <dc:subject/>
  <dc:title>Programy stypendialne  Fundacji na rzecz Nauki Polskiej</dc:title>
</cp:coreProperties>
</file>