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jpeg" ContentType="image/jpeg"/>
  <Override PartName="/ppt/media/image6.png" ContentType="image/png"/>
  <Override PartName="/ppt/media/image7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1800" y="-36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1800" y="9478440"/>
            <a:ext cx="296064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66F0E-0D16-48C4-9042-FD17EEB37AB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C78B-A7F1-4354-9EED-5289E1CF2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98B0-68C0-4452-B76A-455174040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3DD3B-A10E-4796-9FF9-4C0D7F1E48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8A83F-E8D8-4314-B2D9-A686DA6B5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44230-BC65-45A6-8557-485B841D6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0BB0-AA1C-4E96-AC81-46A9FB2C1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7457-5860-4723-96EF-861D59F07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71800" y="9478800"/>
            <a:ext cx="29606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7E8C-F565-4B47-B648-04B5A4D39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22320" y="747720"/>
            <a:ext cx="4991040" cy="37432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2560" y="4739760"/>
            <a:ext cx="5469120" cy="44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2CAD-13AC-415D-AE3D-E79AEB236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C340-D4F0-4ABE-84F3-4C054EF1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2857-2CDE-45C9-A580-2E34BD9BD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3017-2DFA-43D0-B042-E3787C0F8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9BFF-DDB3-4480-A1AF-25D96305A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9A63-27FE-4FA0-8AAE-119288E15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FE15-2F52-4B2E-BD3B-D2FA032D4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6A0F-E9B2-4611-9E81-91D4E760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EA5C-1182-43DC-8E0C-85DD3C23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7720-0A75-42FB-9EA5-807F8915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BDBC-2963-4848-BC45-62AD702C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7E17-2A98-4AA1-A3D9-2D3357F0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73F3-BFF2-4796-9C81-98710DB1375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fnp.org.pl/" TargetMode="External"/><Relationship Id="rId2" Type="http://schemas.openxmlformats.org/officeDocument/2006/relationships/hyperlink" Target="mailto:krystyna.frak@fnp.org.pl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fnp.org.pl/" TargetMode="External"/><Relationship Id="rId2" Type="http://schemas.openxmlformats.org/officeDocument/2006/relationships/hyperlink" Target="mailto:magdalena.zuberek@fnp.org.pl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192888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GB" sz="3200" spc="-1" strike="noStrike">
                <a:solidFill>
                  <a:srgbClr val="ff8000"/>
                </a:solidFill>
                <a:latin typeface="Century Gothic"/>
              </a:rPr>
              <a:t> </a:t>
            </a:r>
            <a:r>
              <a:rPr b="1" lang="pl-PL" sz="3600" spc="-1" strike="noStrike">
                <a:solidFill>
                  <a:srgbClr val="002060"/>
                </a:solidFill>
                <a:latin typeface="Calibri"/>
              </a:rPr>
              <a:t>Oferta programowa </a:t>
            </a:r>
            <a:br>
              <a:rPr sz="3600"/>
            </a:br>
            <a:r>
              <a:rPr b="1" lang="pl-PL" sz="3600" spc="-1" strike="noStrike">
                <a:solidFill>
                  <a:srgbClr val="002060"/>
                </a:solidFill>
                <a:latin typeface="Calibri"/>
              </a:rPr>
              <a:t>Fundacji na rzecz Nauki Polskiej </a:t>
            </a:r>
            <a:br>
              <a:rPr sz="3600"/>
            </a:br>
            <a:r>
              <a:rPr b="1" lang="pl-PL" sz="3600" spc="-1" strike="noStrike">
                <a:solidFill>
                  <a:srgbClr val="002060"/>
                </a:solidFill>
                <a:latin typeface="Calibri"/>
              </a:rPr>
              <a:t>2009</a:t>
            </a:r>
            <a:br>
              <a:rPr sz="4000"/>
            </a:b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28440" y="4786200"/>
            <a:ext cx="7388280" cy="1214640"/>
          </a:xfrm>
          <a:prstGeom prst="rect">
            <a:avLst/>
          </a:prstGeom>
          <a:noFill/>
          <a:ln w="12600">
            <a:solidFill>
              <a:srgbClr val="99cc00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8000"/>
                </a:solidFill>
                <a:latin typeface="Calibri"/>
              </a:rPr>
              <a:t>Adam Zielińsk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8000"/>
                </a:solidFill>
                <a:latin typeface="Calibri"/>
              </a:rPr>
              <a:t>Koordynator Programów Międzynarodowyc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8000"/>
                </a:solidFill>
                <a:latin typeface="Calibri"/>
              </a:rPr>
              <a:t>Fundacja na rzecz Nauki Polskiej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1571760" y="6237360"/>
            <a:ext cx="61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8000"/>
                </a:solidFill>
                <a:latin typeface="Calibri"/>
              </a:rPr>
              <a:t>AGH, Kraków, 3 czerwca 2009 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71320" y="1643040"/>
            <a:ext cx="784836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21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czas trwania stypendium: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 12 miesięc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21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możliwość przedłużenia finansowania na 2 rok i uzyskania dodatkowych środków od FNP (ale pod warunkiem ponowne startu w konkursie i wykazania znaczących postępów po 1 roku stypendium)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program obejmuje wszystkie dziedziny nauki, w tym także w nauki społeczne i humanistyczn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50920" y="2779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ST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STAR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entury Gothic"/>
              </a:rPr>
              <a:t>Finansowani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stypendium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8000"/>
                </a:solidFill>
                <a:latin typeface="Calibri"/>
              </a:rPr>
              <a:t>24 000 PLN</a:t>
            </a: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 dla laureata programu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dodatkowo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specjalne krótkoterminowe stypendium wyjazdowe </a:t>
            </a:r>
            <a:br>
              <a:rPr sz="2400"/>
            </a:b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(do 30 stypendiów roczni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wyjazd na spotkanie z noblistami do Lindau</a:t>
            </a:r>
            <a:br>
              <a:rPr sz="2400"/>
            </a:b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STAR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214280"/>
            <a:ext cx="77724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 u="sng">
                <a:solidFill>
                  <a:srgbClr val="002060"/>
                </a:solidFill>
                <a:uFillTx/>
                <a:latin typeface="Calibri"/>
              </a:rPr>
              <a:t>Wymagane dokumenty: 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2060"/>
                </a:solidFill>
                <a:latin typeface="Calibri"/>
              </a:rPr>
              <a:t>curriculum vitae (CV)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2060"/>
                </a:solidFill>
                <a:latin typeface="Calibri"/>
              </a:rPr>
              <a:t>kserokopia dyplomu ukończenia studiów wyższych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2060"/>
                </a:solidFill>
                <a:latin typeface="Calibri"/>
              </a:rPr>
              <a:t>lista publikacji kandydata o zasięgu ogólnokrajowym lub międzynarodowym, z wyłączeniem komunikatów konferencyjnych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2060"/>
                </a:solidFill>
                <a:latin typeface="Calibri"/>
              </a:rPr>
              <a:t>trzy najważniejsze publikacje w dorobku naukowym kandydata (jego zdaniem)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2060"/>
                </a:solidFill>
                <a:latin typeface="Calibri"/>
              </a:rPr>
              <a:t>opis dotychczasowej pracy naukowej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2060"/>
                </a:solidFill>
                <a:latin typeface="Calibri"/>
              </a:rPr>
              <a:t>opis planów naukowych na najbliższy rok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2060"/>
                </a:solidFill>
                <a:latin typeface="Calibri"/>
              </a:rPr>
              <a:t>opinia opiekuna naukowego/kierownika zespołu badawczego o kandydacie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 u="sng">
                <a:solidFill>
                  <a:srgbClr val="002060"/>
                </a:solidFill>
                <a:uFillTx/>
                <a:latin typeface="Calibri"/>
              </a:rPr>
              <a:t>Opcjonalnie: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2060"/>
                </a:solidFill>
                <a:latin typeface="Calibri"/>
              </a:rPr>
              <a:t>w przypadku badań klinicznych, nad zwierzętami lub gatunkami chronionymi – odpowiednie zgody lub zezwolenia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25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2060"/>
                </a:solidFill>
                <a:latin typeface="Calibri"/>
              </a:rPr>
              <a:t>w przypadku osób korzystających z urlopu macierzyńskiego bądź które zmieniły nazwisko po uzyskaniu tytułu magistra lub stopnia doktora – odpowiednie dokumenty</a:t>
            </a: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STAR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214280"/>
            <a:ext cx="77724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2060"/>
                </a:solidFill>
                <a:uFillTx/>
                <a:latin typeface="Calibri"/>
              </a:rPr>
              <a:t>Kryteria przyznawania/oceny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udokumentowany publikacjami dorobek naukowy</a:t>
            </a:r>
            <a:br>
              <a:rPr sz="1800"/>
            </a:b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(najwyżej oceniane są osoby mogące wykazać się pracami twórczymi, formułującymi hipotezę badawczą, rozwijające teorie lub odwołujące się do nich oraz pracami aplikacyjnymi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zasięg publikacji i ranga czasopism</a:t>
            </a:r>
            <a:br>
              <a:rPr sz="1800"/>
            </a:b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(szczególnie cenione są publikacje w pismach międzynarodowych oraz powszechnie uznawanych za wiodące w danej dziedzinie nauki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lany badawcze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aktualność tematyki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znaczenie badań dla postępu nauki w danej dziedzinie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stopień zaawansowania badań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dpowiednie przygotowanie warsztatowe kandydat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inwencję twórcza i samodzielność badawcza kandydata </a:t>
            </a:r>
            <a:br>
              <a:rPr sz="1800"/>
            </a:b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(własne granty, współpraca z innymi jednostkami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STAR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plikowani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poprzez formularz elektroniczny dostępny na stronie </a:t>
            </a:r>
            <a:r>
              <a:rPr b="0" lang="pl-PL" sz="28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fnp.org.pl</a:t>
            </a: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termin składania wniosków: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31 października 2009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Koordynator program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Krystyna Frąk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tel. +48 22 845 95 11; 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krystyna.frak@fnp.org.pl</a:t>
            </a: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2830-2A53-4912-BB53-0933E19DEA5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1360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dresaci </a:t>
            </a:r>
            <a:r>
              <a:rPr b="0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program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najlepsi młodzi naukowcy, którzy po uzyskaniu doktoratu nie odbyli jeszcze długoterminowego stażu podoktorskiego za granicą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2060"/>
                </a:solidFill>
                <a:uFillTx/>
                <a:latin typeface="Calibri"/>
              </a:rPr>
              <a:t>wymagane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stopień naukowy doktora – uzyskany nie później niż 4 lata od momentu  składania wniosku konkursowego (6 lat  dla kandydatów którzy korzystali z urlopu macierzyńskiego lub wychowawczego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zatrudnienie w polskiej instytucji naukowej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bywatelstwo polskie lub karta stałego pobytu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250920" y="4921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KOLUM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71320" y="1643040"/>
            <a:ext cx="784836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21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czas trwania stypendium: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 6-12 miesięcy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możliwość przedłużenia finansowania o 3 miesiąc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możliwość przedłużenia stypendium o dodatkowe 15 miesięcy – w przypadku wyjazdu do instytucji partnerskiej FNP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program obejmuje wszystkie dziedziny nauki, w tym także w nauki społeczne i humanistyczn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250920" y="2779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KOLUM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KOLUM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entury Gothic"/>
              </a:rPr>
              <a:t>Finansowani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stypendium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8000"/>
                </a:solidFill>
                <a:latin typeface="Calibri"/>
              </a:rPr>
              <a:t>3000 – 6000 euro</a:t>
            </a: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 dla laureata programu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dodatkowo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Calibri"/>
              </a:rPr>
              <a:t>koszty podróży laureata i współmałżonka</a:t>
            </a:r>
            <a:br>
              <a:rPr sz="2200"/>
            </a:b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(pod warunkiem że spędzi on z laureatem połowę okresu trwania stypendium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Calibri"/>
              </a:rPr>
              <a:t>koszt ubezpieczenia podczas stypendium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Calibri"/>
              </a:rPr>
              <a:t>środki na zagospodarowanie się w miejscu stażu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Calibri"/>
              </a:rPr>
              <a:t>środki na udział w konferencjach</a:t>
            </a:r>
            <a:br>
              <a:rPr sz="2400"/>
            </a:b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KOLUM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77724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 u="sng">
                <a:solidFill>
                  <a:srgbClr val="002060"/>
                </a:solidFill>
                <a:uFillTx/>
                <a:latin typeface="Calibri"/>
              </a:rPr>
              <a:t>Wymagane dokumenty: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tabelaryczne curriculum vitae (CV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pis prowadzonych badań naukowych (po uzyskaniu doktoratu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pis projektu badawczego (zamierzeń badawczych w trakcie s</a:t>
            </a: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typendium</a:t>
            </a: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list zapraszający od instytucji zagranicznej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krótka charakterystyka wybranego miejsca stażu (instytucji), z uwzględnieniem osiągnięć naukowych osoby zapraszającej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lista wszystkich publikacji kandydata (bez doniesień </a:t>
            </a: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konferencyjny</a:t>
            </a: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ch</a:t>
            </a: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ale </a:t>
            </a: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z</a:t>
            </a: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 wyszczególnieniem trzech publikacji, które kandydat uważa za najważniejsze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kopi</a:t>
            </a: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a</a:t>
            </a: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 dyplomu doktorskiego;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trzy publikacje (w wersji elektronicznej), które kandydat uważa za najważniejsze </a:t>
            </a: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w swoim dorobku naukowy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pcjonalnie - dokument potwierdzający korzystanie z urlopu wychowawczeg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KOLUM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95280" y="1214280"/>
            <a:ext cx="77724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2060"/>
                </a:solidFill>
                <a:uFillTx/>
                <a:latin typeface="Calibri"/>
              </a:rPr>
              <a:t>Kryteria przyznawania/oceny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I etap (recenzja pisemna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dorobek naukowy kandydat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rojekt badawczy;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ranga wybranego przez kandydata zagranicznego ośrodka naukowego oraz zasadność wyboru i dorobek badawczy opiekuna naukowego w tym ośrodku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II etap (panel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dynamika kariery naukowej kandydata i dotychczasowe doświadczenia w zakresie rozwijania współpracy naukowej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rojekt badawczy (nowatorstwo), ze szczególnym uwzględnieniem możliwości wykorzystania wyników badań po powrocie do kraju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wiedza na temat ośrodka badawczego jako miejsca realizacji  przedstawionego projektu badawczego oraz uzasadnienie celowości wyjazdu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znajomość języka obceg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1285920" y="285840"/>
            <a:ext cx="3357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8000"/>
                </a:solidFill>
                <a:latin typeface="Calibri"/>
              </a:rPr>
              <a:t>Plan prezent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826920" y="1844640"/>
            <a:ext cx="79804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d4b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1d4b7d"/>
                </a:solidFill>
                <a:latin typeface="Calibri"/>
              </a:rPr>
              <a:t>podstawowe informacje o Fundac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 u="sng">
                <a:solidFill>
                  <a:srgbClr val="1d4b7d"/>
                </a:solidFill>
                <a:uFillTx/>
                <a:latin typeface="Calibri"/>
              </a:rPr>
              <a:t>Działalność programow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d4b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1d4b7d"/>
                </a:solidFill>
                <a:latin typeface="Calibri"/>
              </a:rPr>
              <a:t>programy finansowane z części endowmentow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d4b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1d4b7d"/>
                </a:solidFill>
                <a:latin typeface="Calibri"/>
              </a:rPr>
              <a:t>programy finansowane z funduszy strukturalny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1d4b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1d4b7d"/>
                </a:solidFill>
                <a:latin typeface="Calibri"/>
              </a:rPr>
              <a:t>pyt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KOLUMB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plikowani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poprzez formularz elektroniczny dostępny na stronie </a:t>
            </a:r>
            <a:r>
              <a:rPr b="0" lang="pl-PL" sz="28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fnp.org.pl</a:t>
            </a: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termin składania wniosków: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 15 marca 2010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Koordynator program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Magdalena Zuberek-Wąsińska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tel. +48 22 845 95 20; 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magdalena.zuberek@fnp.org.p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97B21-82B3-47B5-A128-480D944DE0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1360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o grant mogą ubiegać się laureaci programu Kolumb po zakończeniu stypendium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grant wspomagający to 40 000 PLN do wykorzystania na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zakup aparatury naukowej, wydawnictw i sprzętu ułatwiającego pracę badawczą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na rozwijanie współpracy międzynarodowej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2060"/>
                </a:solidFill>
                <a:uFillTx/>
                <a:latin typeface="Calibri"/>
              </a:rPr>
              <a:t>Koordynator programu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Małgorzata Bury, tel. +48 22 845 95 37, malgorzata.bury@fnp.org.pl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250920" y="4921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Grant wspomagają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92460-4C61-43EB-81C2-07F594653A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1360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dresaci </a:t>
            </a:r>
            <a:r>
              <a:rPr b="0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program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młodzi polscy naukowcy pragnący wrócić do Polski po dłuższym pobycie zagraniczny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laureatem programu może zostać osoba, która wróciła do Polski w ciągu ostatnich 12 miesięcy lub planuje to zrobić do 6 miesięcy po upływie terminu składania wniosków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wymagane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doktorat (uzyskany nie później niż 4 lata przed przystąpieniem do konkursu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zatrudnienie (promesa zatrudnienia) w polskiej instytucji naukowej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250920" y="4921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Homing/Powro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7500960" y="5857920"/>
            <a:ext cx="1041480" cy="717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566B-EAE8-4977-94F0-95EDADB1DF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250920" y="18900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Homing/Powro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13880" y="1785960"/>
            <a:ext cx="7853400" cy="421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72000" anchor="t">
            <a:normAutofit/>
          </a:bodyPr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Cele program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zachęcenie najlepszych młodych polskich naukowców do powrotu do Polski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umożliwienie im kontynuacji karier naukowych na zbliżonym poziomie co wcześniej (poza Polską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ułatwienie kontynuacji nawiązanej już współpracy z zagranicą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7572240" y="5715000"/>
            <a:ext cx="1041480" cy="717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71320" y="1643040"/>
            <a:ext cx="784836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21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okres realizacji projektu: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 2 lata + 1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21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możliwość przedłużenia finansowania na 3 rok i uzyskania dodatkowych środków od FNP (ale pod warunkiem uzyskania finansowania także z innego źródła)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18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projekty realizowane są we wszystkich dziedzinach nauki, w tym także w naukach społecznych </a:t>
            </a:r>
            <a:br>
              <a:rPr sz="2400"/>
            </a:b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i humanistycznych</a:t>
            </a:r>
            <a:r>
              <a:rPr b="1" i="1" lang="pl-PL" sz="24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250920" y="2779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Homing/Powro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7715160" y="5715000"/>
            <a:ext cx="1041480" cy="717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Homing/Powrot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entury Gothic"/>
              </a:rPr>
              <a:t>Finansowani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część stypendialna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l-PL" sz="2800" spc="-1" strike="noStrike">
                <a:solidFill>
                  <a:srgbClr val="ff8000"/>
                </a:solidFill>
                <a:latin typeface="Calibri"/>
              </a:rPr>
              <a:t>36 000 PLN</a:t>
            </a: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 rocznie dla laureata programu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część grantowa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około </a:t>
            </a:r>
            <a:r>
              <a:rPr b="1" lang="pl-PL" sz="2800" spc="-1" strike="noStrike">
                <a:solidFill>
                  <a:srgbClr val="ff8000"/>
                </a:solidFill>
                <a:latin typeface="Calibri"/>
              </a:rPr>
              <a:t>46 000 PLN</a:t>
            </a: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 rocznie</a:t>
            </a:r>
            <a:br>
              <a:rPr sz="2800"/>
            </a:br>
            <a:r>
              <a:rPr b="1" lang="pl-PL" sz="2200" spc="-1" strike="noStrike">
                <a:solidFill>
                  <a:srgbClr val="002060"/>
                </a:solidFill>
                <a:latin typeface="Calibri"/>
              </a:rPr>
              <a:t>(wysokość grantu uzależniona od środków uzyskanych przez FNP z mechanizmu 1%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7715160" y="5715000"/>
            <a:ext cx="1041480" cy="717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Homing/Powrot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214280"/>
            <a:ext cx="77724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2060"/>
                </a:solidFill>
                <a:uFillTx/>
                <a:latin typeface="Calibri"/>
              </a:rPr>
              <a:t>Finansowanie – część grantowa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zakup wyposażenia badawczego, aparatury naukowo-badawczej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zakup oprogramowania komputeroweg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zakup materiałów koniecznych do przeprowadzenia badań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zakup publikacji naukowych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konserwacja i naprawy aparatury, maszyn, instrumentów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tłumaczenia i inne usługi zewnętrzn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ublikacja wyników projektu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odróże krajow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wymiana naukowa do zagranicznego ośrodka badawczego, trwająca do sześciu tygodni roczni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raz wizyty badaczy z ośrodka zagranicznego w placówce badawczej Laureat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inne uzasadnione koszty bezpośrednio związane z prowadzeniem badań naukowych w ramach realizacji projektu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7715160" y="5786280"/>
            <a:ext cx="1041480" cy="717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Homing/Powroty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plikowani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poprzez formularz elektroniczny dostępny na stronie www.fnp.org.pl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termin składania wniosków: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30 kwietni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Koordynator program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Magdalena Wach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tel. +48 22 845 95 45; magdalena.wach@fnp.org.pl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7715160" y="5715000"/>
            <a:ext cx="1041480" cy="717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9DE5-0122-49CC-8A06-79779050148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1571760"/>
            <a:ext cx="91440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Wunderlich Italic"/>
              </a:rPr>
              <a:t>    </a:t>
            </a:r>
            <a:r>
              <a:rPr b="1" lang="pl-PL" sz="1600" spc="-1" strike="noStrike">
                <a:solidFill>
                  <a:srgbClr val="404040"/>
                </a:solidFill>
                <a:latin typeface="Wunderlich Italic"/>
              </a:rPr>
              <a:t>	</a:t>
            </a:r>
            <a:r>
              <a:rPr b="1" lang="pl-PL" sz="1600" spc="-1" strike="noStrike">
                <a:solidFill>
                  <a:srgbClr val="002060"/>
                </a:solidFill>
                <a:latin typeface="Calibri"/>
              </a:rPr>
              <a:t>Wymagane dokumenty (w języku angielskim):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życiorys kandydata </a:t>
            </a:r>
            <a:br>
              <a:rPr sz="1600"/>
            </a:b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(dane dotyczące: wykształcenia, przebiegu kariery zawodowej, znajomości języków obcych, stypendiów, staży, szkoleń za granicą oraz projektów badawczych, w których uczestniczył kandydat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lista wszystkich publikacji, z wyróżnieniem trzech najważniejszych oraz będących rezultatem pobytu za granicą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kopie trzech najważniejszych publikacji (w języku oryginalnym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więzły opis prowadzonych obecnie prac badawczych (max. 1 strona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informacja o planowanym projekcie badawczym oraz dalszej współpracy z goszczącym ośrodkiem zagranicznym (max. 2 strony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kserokopia dyplomu doktorskiego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dwa listy rekomendacyjn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plan wydatków na I rok wraz z uzasadnieniem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80000"/>
              </a:lnSpc>
              <a:spcBef>
                <a:spcPts val="11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zaświadczenie o zatrudnieniu lub promesa zatrudnienia w wybranej instytucji w Polsce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2060"/>
                </a:solidFill>
                <a:latin typeface="Wunderlich Italic"/>
              </a:rPr>
              <a:t>	</a:t>
            </a:r>
            <a:r>
              <a:rPr b="1" lang="pl-PL" sz="1600" spc="-1" strike="noStrike">
                <a:solidFill>
                  <a:srgbClr val="002060"/>
                </a:solidFill>
                <a:latin typeface="Wunderlich Italic"/>
              </a:rPr>
              <a:t>	</a:t>
            </a:r>
            <a:r>
              <a:rPr b="1" lang="pl-PL" sz="1600" spc="-1" strike="noStrike">
                <a:solidFill>
                  <a:srgbClr val="002060"/>
                </a:solidFill>
                <a:latin typeface="Wunderlich Italic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250920" y="18900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Homing/Powro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7858080" y="5929200"/>
            <a:ext cx="1041480" cy="717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D349C-9403-4092-B372-DF025BDC072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Wunderlich Italic"/>
              </a:rPr>
              <a:t>    </a:t>
            </a:r>
            <a:r>
              <a:rPr b="1" lang="pl-PL" sz="2000" spc="-1" strike="noStrike">
                <a:solidFill>
                  <a:srgbClr val="404040"/>
                </a:solidFill>
                <a:latin typeface="Wunderlich Italic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Kryteria oceny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dorobek badawczy kandydata, w szczególności ten uzyskany podczas pobytu za granicą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rojekt badawcz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lan kontynuacji współpracy z ośrodkiem zagranicznym, z którego powraca kandydat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lan finansowy wykorzystania subsydiu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omocniczo: ranga ośrodka z którego kandydata wraca do Polski oraz przyjmująceg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Etapy oceny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cena formaln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cena merytoryczna – recenzja pisemn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rozmowa kwalifikacyjna (panel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Wunderlich Italic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Wunderlich Italic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Wunderlich Ital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250920" y="18900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Homing/Powro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7858080" y="5857920"/>
            <a:ext cx="1041480" cy="717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1285920" y="285840"/>
            <a:ext cx="3357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8000"/>
                </a:solidFill>
                <a:latin typeface="Calibri"/>
              </a:rPr>
              <a:t>O Fundac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826920" y="1844640"/>
            <a:ext cx="798048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1d4b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1d4b7d"/>
                </a:solidFill>
                <a:latin typeface="Calibri"/>
              </a:rPr>
              <a:t>działamy nieprzerwanie od 1991 rok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1d4b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1d4b7d"/>
                </a:solidFill>
                <a:latin typeface="Calibri"/>
              </a:rPr>
              <a:t>środki z kapitału żelaznego</a:t>
            </a:r>
            <a:r>
              <a:rPr b="0" lang="en-GB" sz="2700" spc="-1" strike="noStrike">
                <a:solidFill>
                  <a:srgbClr val="1d4b7d"/>
                </a:solidFill>
                <a:latin typeface="Calibri"/>
              </a:rPr>
              <a:t> </a:t>
            </a:r>
            <a:r>
              <a:rPr b="0" lang="pl-PL" sz="2700" spc="-1" strike="noStrike">
                <a:solidFill>
                  <a:srgbClr val="1d4b7d"/>
                </a:solidFill>
                <a:latin typeface="Calibri"/>
              </a:rPr>
              <a:t>oraz U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1d4b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1d4b7d"/>
                </a:solidFill>
                <a:latin typeface="Calibri"/>
              </a:rPr>
              <a:t>prowadzimy działalność </a:t>
            </a:r>
            <a:r>
              <a:rPr b="0" lang="en-GB" sz="2700" spc="-1" strike="noStrike">
                <a:solidFill>
                  <a:srgbClr val="1d4b7d"/>
                </a:solidFill>
                <a:latin typeface="Calibri"/>
              </a:rPr>
              <a:t>non-profi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1d4b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1d4b7d"/>
                </a:solidFill>
                <a:latin typeface="Calibri"/>
              </a:rPr>
              <a:t>jesteśmy niezależni i elastyczn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1d4b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1d4b7d"/>
                </a:solidFill>
                <a:latin typeface="Calibri"/>
              </a:rPr>
              <a:t>status organizacji pożytku publiczneg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75"/>
              </a:spcBef>
              <a:buClr>
                <a:srgbClr val="1d4b7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1d4b7d"/>
                </a:solidFill>
                <a:latin typeface="Calibri"/>
              </a:rPr>
              <a:t>nasze motto to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ff8000"/>
                </a:solidFill>
                <a:latin typeface="Calibri"/>
              </a:rPr>
              <a:t>Wspierać tylko najlepszych, aby mogli stać się jeszcze lepsi</a:t>
            </a:r>
            <a:r>
              <a:rPr b="1" i="1" lang="en-GB" sz="2800" spc="-1" strike="noStrike">
                <a:solidFill>
                  <a:srgbClr val="ff8000"/>
                </a:solidFill>
                <a:latin typeface="Calibri"/>
              </a:rPr>
              <a:t>!</a:t>
            </a:r>
            <a:r>
              <a:rPr b="0" lang="en-GB" sz="3200" spc="-1" strike="noStrike">
                <a:solidFill>
                  <a:srgbClr val="ff8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Stypendia Konferencyjn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71320" y="1785960"/>
            <a:ext cx="8064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dofinansowanie uczestnictwa polskich naukowców w międzynarodowych konferencjach i sympozjac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warunkiem uzyskania jest m.in. wygłoszenie referatu, komunikatu, przedstawienie plakatu oraz posiadanie stopnia naukowego doktora, etat lub status doktoranta w instytucji naukowej, nieukończone 35 l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stypendium pokrywa do 75% kosztów udziału w konferencji!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program realizuje Towarzystwo Naukowe Warszawskie: www.tnw.waw.p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4 konkursy w ciągu roku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najbliższy termin składania wniosków 30 VI i 30 X 2009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formularz elektroniczny na stronie TNW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279F-48E2-400A-94BC-6549E17A628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1360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dresaci </a:t>
            </a:r>
            <a:r>
              <a:rPr b="0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program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wybitni młodzi naukowcy pragnący stworzyć własny zespół badawczy i laboratorium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wymagania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doktorat (uzyskany nie później niż 9 lat przed startem w konkursie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zatrudnienie w polskiej jednostce naukowej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program dostępny jest dla zagranicznych naukowców a także dla polskich naukowców pracujących zagranicą – warunkiem udziału jest kontynuowanie pracy naukowej w Polsc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250920" y="4921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1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6B944-2BF9-4994-AED3-9AA51B359C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250920" y="18900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42920" y="1785600"/>
            <a:ext cx="3924360" cy="44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72000" anchor="t">
            <a:normAutofit/>
          </a:bodyPr>
          <a:p>
            <a:pPr marL="343080" indent="0"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entury Gothic"/>
              </a:rPr>
              <a:t>	</a:t>
            </a: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Zachęcenie najlepszych młodych naukowców do stworzenia własnego zespołu i podjęcia pracy naukowej w Polsce, w wybranych obszarach badań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857160" y="1928880"/>
            <a:ext cx="3429000" cy="3511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71320" y="1500120"/>
            <a:ext cx="784836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15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okres realizacji projektu: 3 + 2 lata</a:t>
            </a:r>
            <a:br>
              <a:rPr sz="2400"/>
            </a:b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(przedłużenie terminu realizacji projektu o dwa lata uzależnione od uzyskania dodatkowego finansowania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konkursy dotyczą wybranych obszarów badań, definiowanych corocznie przez Zarząd FNP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nacisk na interdyscyplinarność badań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8000"/>
                </a:solidFill>
                <a:latin typeface="Calibri"/>
              </a:rPr>
              <a:t>FOCUS 2009 – Badania nad językową kategoryzacją świat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250920" y="2779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FOCU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entury Gothic"/>
              </a:rPr>
              <a:t>Finansowani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część stypendialna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6000 PLN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miesięcznie dla laureata programu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stypendia dla członków zespołu laureat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część grantowa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300 000 PLN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roczni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grant aparaturowy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dla laureatów programu </a:t>
            </a: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(pula określana corocznie przez Zarząd FNP – w 2009 r </a:t>
            </a:r>
            <a:r>
              <a:rPr b="1" lang="pl-PL" sz="2000" spc="-1" strike="noStrike">
                <a:solidFill>
                  <a:srgbClr val="ff8000"/>
                </a:solidFill>
                <a:latin typeface="Calibri"/>
              </a:rPr>
              <a:t>1,5 mln PLN</a:t>
            </a: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)</a:t>
            </a:r>
            <a:br>
              <a:rPr sz="2000"/>
            </a:b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FOCU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2060"/>
                </a:solidFill>
                <a:uFillTx/>
                <a:latin typeface="Calibri"/>
              </a:rPr>
              <a:t>Finansowanie – część grantowa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zakupy aparatury, materiałów niezbędnych do prowadzenia badań, książek, czasopism itp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koszty podróży służbowych, wymiany osobowej z zagranicą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koszty konferencj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wynagrodzenia za prace pomocnicze i techniczne wykonywane na podstawie umów cywilnoprawnych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koszty administracyjne i techniczne, w tym na pozyskiwania dodatkowych źródeł finansowani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FOCU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plikowani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poprzez formularz elektroniczny dostępny na stronie www.fnp.org.pl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termin składania wniosków: </a:t>
            </a:r>
            <a:r>
              <a:rPr b="1" lang="pl-PL" sz="2800" spc="-1" strike="noStrike">
                <a:solidFill>
                  <a:srgbClr val="ff8000"/>
                </a:solidFill>
                <a:latin typeface="Calibri"/>
              </a:rPr>
              <a:t>15 X 2009</a:t>
            </a: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Koordynator program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Tadeusz Pacholik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tel. +48 22 845 95 10; tadeusz.pacholik@fnp.org.pl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5527-AF4B-4980-9028-EE71B84FB33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21392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Wymagane dokumenty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52520" indent="-45252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tytuł i zwięzły opis kierunku zamierzonych badań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52520" indent="-45252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informacja o przebiegu kariery naukowej wnioskodawcy i jego dokonaniach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52520" indent="-45252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charakterystyka zespołu wnioskodawcy, z którym prowadzi/zamierza podjąć poszukiwania/badania, posiadanego instrumentarium, a także wykaz posiadanej, niezbędnej do prowadzenia planowanych badań aparatur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52520" indent="-45252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ramowy plan finansow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52520" indent="-45252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pcjonalnie: wymagane zgody i zezwolenia (w przypadku badań nad zwierzętami itd.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52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525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Jeżeli kandydat zatrudniony jest w polskiej instytucji prowadzącej badania naukowe, powinien dołączyć zaświadczenie o zatrudnieniu. Jeżeli kandydat nie jest zatrudniony w Polsce, powinien dołączyć informację o tym, gdzie i na jakie stanowisko będzie się ubiegał o zatrudnienie oraz pismo dokumentujące chęć zatrudnienia go, podpisane przez </a:t>
            </a:r>
            <a:r>
              <a:rPr b="0" lang="en-GB" sz="1800" spc="-1" strike="noStrike">
                <a:solidFill>
                  <a:srgbClr val="002060"/>
                </a:solidFill>
                <a:latin typeface="Calibri"/>
              </a:rPr>
              <a:t>kierownika tej instytucji</a:t>
            </a: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94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944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l-PL" sz="18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250920" y="18900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4CCE-C930-4888-8014-40D02DBF39D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0" y="121392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3931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Wunderlich Italic"/>
              </a:rPr>
              <a:t>    </a:t>
            </a:r>
            <a:r>
              <a:rPr b="1" lang="pl-PL" sz="2000" spc="-1" strike="noStrike">
                <a:solidFill>
                  <a:srgbClr val="404040"/>
                </a:solidFill>
                <a:latin typeface="Wunderlich Italic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Kryteria oceny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32724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naukowa aktywność kandydata i jego dotychczasowe osiągnięc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32724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otencjał kandydata i szansa odniesienia przez niego znaczącego sukcesu w dającej się przewidzieć przyszłośc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32724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wartość wskazanych przez kandydata osiągnięć naukowych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32724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znaczenie przedkładanego zamierzenia badawczego dla rozwoju dyscypliny wspieranej w ramach konkursu;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32724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ryginalność tematyki badawczej, tez projektu oraz zaproponowanej metodyki badań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32724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otencjał zespołu badawczego kandydata oraz liczba uzyskanych przez niego grantów krajowych i zagranicznych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32724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jakość wsparcia oferowanego przez jednostkę zapraszającą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Etapy oceny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32724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cena formalna/ocena merytoryczna/rozmowa kwalifikacyjn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-32724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dodatkowy konkurs o grant aparaturow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207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Wunderlich Italic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Wunderlich Italic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Wunderlich Ital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250920" y="18900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FOC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CDC4-EAC2-45C2-9C38-88BAE8F4813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1213920"/>
            <a:ext cx="91440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70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Wunderlich Italic"/>
              </a:rPr>
              <a:t>    </a:t>
            </a:r>
            <a:r>
              <a:rPr b="1" lang="pl-PL" sz="2000" spc="-1" strike="noStrike">
                <a:solidFill>
                  <a:srgbClr val="404040"/>
                </a:solidFill>
                <a:latin typeface="Wunderlich Ital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678600" indent="-30816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celem programu jest wspieranie wybitnych uczonych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78600" indent="-30816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rogram umożliwia albo intensyfikowanie już prowadzonych prac, albo podejmowanie nowych kierunków badań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78600" indent="-30816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adresowany jest do aktywnie działających naukowo osób, których dotychczasowy dorobek stanowi rękojmię właściwego wykorzystania przyznanych im środków i które potrafią skutecznie łączyć pracę naukową z kształceniem młodej kadr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78600" indent="-30816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12 subsydiów rocznie, po 450 000 PLN każd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78600" indent="-30816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system nominacj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78600" indent="-30816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subsydia przyznawane są na drodze zamkniętego konkursu, obejmującego co rok inny obszar nauki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78600" indent="-30816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w roku 2009 konkurs adresowany jest do przedstawicieli nauk technicznych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786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786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Koordynator: Adam Zieliński, tel. +48 22 845 95 15; adam.zielinski@fnp.org.pl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786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786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786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6786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Wunderlich Italic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Wunderlich Italic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Wunderlich Ital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250920" y="18900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MISTR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457200" y="274680"/>
            <a:ext cx="5329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8000"/>
                </a:solidFill>
                <a:latin typeface="Calibri"/>
              </a:rPr>
              <a:t>Zasady finansow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468360" y="1773360"/>
            <a:ext cx="8229600" cy="43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d4b7d"/>
                </a:solidFill>
                <a:latin typeface="Calibri"/>
              </a:rPr>
              <a:t>Wspieramy badania we wszystkich dziedzinach:</a:t>
            </a:r>
            <a:r>
              <a:rPr b="0" lang="en-GB" sz="2000" spc="-1" strike="noStrike">
                <a:solidFill>
                  <a:srgbClr val="1d4b7d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4b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d4b7d"/>
                </a:solidFill>
                <a:latin typeface="Calibri"/>
              </a:rPr>
              <a:t>nauki ścisł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4b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d4b7d"/>
                </a:solidFill>
                <a:latin typeface="Calibri"/>
              </a:rPr>
              <a:t>nauki przyrodnicze i medycz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4b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d4b7d"/>
                </a:solidFill>
                <a:latin typeface="Calibri"/>
              </a:rPr>
              <a:t>nauki technicz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4b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d4b7d"/>
                </a:solidFill>
                <a:latin typeface="Calibri"/>
              </a:rPr>
              <a:t>nauki humanistyczne i społecz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d4b7d"/>
                </a:solidFill>
                <a:latin typeface="Calibri"/>
              </a:rPr>
              <a:t>Wspieramy indywidualnych naukowców</a:t>
            </a:r>
            <a:r>
              <a:rPr b="0" lang="en-GB" sz="2000" spc="-1" strike="noStrike">
                <a:solidFill>
                  <a:srgbClr val="1d4b7d"/>
                </a:solidFill>
                <a:latin typeface="Calibri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4b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d4b7d"/>
                </a:solidFill>
                <a:latin typeface="Calibri"/>
              </a:rPr>
              <a:t>stype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4b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d4b7d"/>
                </a:solidFill>
                <a:latin typeface="Calibri"/>
              </a:rPr>
              <a:t>nagr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4b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d4b7d"/>
                </a:solidFill>
                <a:latin typeface="Calibri"/>
              </a:rPr>
              <a:t>subsy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1d4b7d"/>
                </a:solidFill>
                <a:latin typeface="Calibri"/>
              </a:rPr>
              <a:t>Wsparcie wyłącznie w drodze konkur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ffc000"/>
                </a:solidFill>
                <a:latin typeface="Calibri"/>
              </a:rPr>
              <a:t>Przyznajemy ponad 600 stypendiów roczni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Nagroda FNP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642960" y="1571760"/>
            <a:ext cx="712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przyznawana corocznie za wybitne osiągnięcia i odkrycia naukow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najbardziej prestiżowa nagroda naukowa w Pols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cztery kategorie: nauki ścisłe, nauki techniczne, nauki humanistyczne i społeczne, nauki przyrodnicze i medycz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Koordynator: Ewa Śliwowska</a:t>
            </a:r>
            <a:br>
              <a:rPr sz="2400"/>
            </a:b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tel. +48 22 845 95 25; ewa.sliwowska@fnp.org.p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4200" y="609120"/>
            <a:ext cx="601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8000"/>
                </a:solidFill>
                <a:latin typeface="Calibri"/>
              </a:rPr>
              <a:t>P</a:t>
            </a:r>
            <a:r>
              <a:rPr b="1" lang="pl-PL" sz="3000" spc="-1" strike="noStrike">
                <a:solidFill>
                  <a:srgbClr val="ff8000"/>
                </a:solidFill>
                <a:latin typeface="Calibri"/>
              </a:rPr>
              <a:t>olsko - Niemiecka Nagroda Naukowa COPERNICU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14240" y="1785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ustanowiona wspólnie przez DFG i FNP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€</a:t>
            </a: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10</a:t>
            </a:r>
            <a:r>
              <a:rPr b="0" lang="en-GB" sz="2000" spc="-1" strike="noStrike">
                <a:solidFill>
                  <a:srgbClr val="002060"/>
                </a:solidFill>
                <a:latin typeface="Calibri"/>
              </a:rPr>
              <a:t>0,000 </a:t>
            </a: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dla dwóch współpracujących ze sobą naukowców, którzy wnieśli znaczący wkład w rozwój polsko-niemieckiej współpracy naukowej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nacisk na wspólne osiągnięcia naukowe oraz wspólne wspieranie młodych naukowców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przyznawana na podstawie nominacj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konkurs ogłaszany co dwa lata </a:t>
            </a:r>
            <a:br>
              <a:rPr sz="2000"/>
            </a:b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(właśnie się rozpoczął – </a:t>
            </a:r>
            <a:r>
              <a:rPr b="1" lang="pl-PL" sz="2000" spc="-1" strike="noStrike">
                <a:solidFill>
                  <a:srgbClr val="ff8000"/>
                </a:solidFill>
                <a:latin typeface="Calibri"/>
              </a:rPr>
              <a:t>deadline 12 października 2009</a:t>
            </a: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Koordynator: Adam Zieliński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tel. +48 22 845 95 15; adam.zielinski@fnp.org.pl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4" name="Picture 4" descr="Obraz1"/>
          <p:cNvPicPr/>
          <p:nvPr/>
        </p:nvPicPr>
        <p:blipFill>
          <a:blip r:embed="rId1"/>
          <a:stretch/>
        </p:blipFill>
        <p:spPr>
          <a:xfrm>
            <a:off x="7236000" y="836640"/>
            <a:ext cx="1525320" cy="46980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601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ff8000"/>
                </a:solidFill>
                <a:latin typeface="Calibri"/>
              </a:rPr>
              <a:t>Polskie Honorowe Stypendium im. Alexandra von Humboldt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7120" y="1571400"/>
            <a:ext cx="77724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Calibri"/>
              </a:rPr>
              <a:t>prestiżowe stypendium dla wybitnych niemieckich uczonych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Calibri"/>
              </a:rPr>
              <a:t>stypendium – maksymalnie 6 miesięcy (w ciągu 3 lat)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Calibri"/>
              </a:rPr>
              <a:t>wysokość stypendium – 4000 € miesięczni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Calibri"/>
              </a:rPr>
              <a:t>stypendia na pobyt w wiodących polskich ośrodkach badawczych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Calibri"/>
              </a:rPr>
              <a:t>program realizowany na podstawie umowy o współpracy z Fundacją Humboldta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Calibri"/>
              </a:rPr>
              <a:t>najbliższy termin składania wniosków: </a:t>
            </a:r>
            <a:r>
              <a:rPr b="0" lang="pl-PL" sz="2200" spc="-1" strike="noStrike">
                <a:solidFill>
                  <a:srgbClr val="ff8000"/>
                </a:solidFill>
                <a:latin typeface="Calibri"/>
              </a:rPr>
              <a:t>30 IX 2009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Calibri"/>
              </a:rPr>
              <a:t>Koordynator: Adam Zieliński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Calibri"/>
              </a:rPr>
              <a:t>tel. +48 22 845 95 15; adam.zielinski@fnp.org.pl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y finansowane z funduszy strukturalnych</a:t>
            </a: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4240" y="142884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2060"/>
                </a:solidFill>
                <a:latin typeface="Calibri"/>
              </a:rPr>
              <a:t>Program TEAM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2060"/>
                </a:solidFill>
                <a:latin typeface="Calibri"/>
              </a:rPr>
              <a:t>Program MPD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2060"/>
                </a:solidFill>
                <a:latin typeface="Calibri"/>
              </a:rPr>
              <a:t>Program WELCOM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2060"/>
                </a:solidFill>
                <a:latin typeface="Calibri"/>
              </a:rPr>
              <a:t>Program VENTURE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B1D3-3843-4163-8382-D828FDBC78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1360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dresaci </a:t>
            </a:r>
            <a:r>
              <a:rPr b="0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program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Wniosek składa jednostka naukowa wraz kierownikiem projektu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Kierownikiem projektu może być uczony, którzy zamierzają zatrudnić w  swoim zespole młodych uczonych : studentów, doktorantów i młodych doktorów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250920" y="4921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84836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Wunderlich Italic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l-PL" sz="2800" spc="-1" strike="noStrike">
                <a:solidFill>
                  <a:srgbClr val="ff8000"/>
                </a:solidFill>
                <a:latin typeface="Calibri"/>
              </a:rPr>
              <a:t>W skład zespołu musi wchodzić co najmniej 6 młodych uczonych wybranych w  ramach otwartego naboru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Wunderlich Italic"/>
              </a:rPr>
              <a:t>Okres realizacji projektu:</a:t>
            </a:r>
            <a:r>
              <a:rPr b="0" lang="pl-PL" sz="2800" spc="-1" strike="noStrike">
                <a:solidFill>
                  <a:srgbClr val="002060"/>
                </a:solidFill>
                <a:latin typeface="Wunderlich Italic"/>
              </a:rPr>
              <a:t> 2 - 4 lat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Wunderlich Italic"/>
              </a:rPr>
              <a:t>Projekty realizowane są w dziedzinach z zakresu wskazanego jako </a:t>
            </a:r>
            <a:r>
              <a:rPr b="1" i="1" lang="pl-PL" sz="2400" spc="-1" strike="noStrike">
                <a:solidFill>
                  <a:srgbClr val="002060"/>
                </a:solidFill>
                <a:latin typeface="Wunderlich Italic"/>
              </a:rPr>
              <a:t>bio, info, techn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250920" y="2779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</a:t>
            </a:r>
            <a:r>
              <a:rPr b="1" lang="pl-PL" sz="3600" spc="-1" strike="noStrike">
                <a:solidFill>
                  <a:srgbClr val="ff8000"/>
                </a:solidFill>
                <a:latin typeface="Wunderlich Italic"/>
              </a:rPr>
              <a:t>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Team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entury Gothic"/>
              </a:rPr>
              <a:t>Finansowani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imienne stypendium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1 000 PLN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miesięcznie – dotyczy studenta i absolwenta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3 000 PLN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miesięcznie – dotyczy doktoranta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5 000 PLN 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miesięcznie – dotyczy młodego doktor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część grantowa –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35 000 PLN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rocznie za każdego doktoranta oraz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55 000 PLN 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rocznie za każdego postdoc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Team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57120" y="1285560"/>
            <a:ext cx="77724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2060"/>
                </a:solidFill>
                <a:uFillTx/>
                <a:latin typeface="Calibri"/>
              </a:rPr>
              <a:t>Finansowanie – część grantowa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wynagrodzenia pracowników naukowych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amortyzacj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wyposażenie laboratoryj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materiały, surowce, oprogramowan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usługi badawcze i ekspertyz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dostęp do źródeł informacj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ochrona patentow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promocj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wydatki związane z prowadzeniem naboru do zespołu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delegacje krajowe i wymiana międzynarodow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koszty ogól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7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5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2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1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1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7" dur="500"/>
                                        <p:tgtEl>
                                          <p:spTgt spid="1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Team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plikowani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2060"/>
                </a:solidFill>
                <a:latin typeface="Calibri"/>
              </a:rPr>
              <a:t>http://ex.fnp.org.pl/forms/team02/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Terminy - dwa razy w roku – najbliższy: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 30 IX 2009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2060"/>
                </a:solidFill>
                <a:uFillTx/>
                <a:latin typeface="Calibri"/>
              </a:rPr>
              <a:t>Koordynator programu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Beata Frączak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tel. (022) 424 02 26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e-mail: beata.fraczak@fnp.org.p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500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500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500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A739E-2438-42AE-9648-43D1A8F9B29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Kryteria oceny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29440" indent="-37692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dorobek badawczy lub wdrożeniowy kierownika zespołu (ostatnie 4 lata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9440" indent="-37692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wartości naukowe lub innowacyjne przedstawionych programów w zespol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9440" indent="-37692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zasadność planowanej liczebności zespołu względem przedstawionego programu badawczeg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9440" indent="-37692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rocedury wyboru młodych naukowców do pracy w zespol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9440" indent="-37692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zakres współpracy międzynarodowej zespołu w ramach projektu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9440" indent="-37692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zasadność i efektywność budżetu projektu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94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Etapy oceny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9440" indent="-37692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cena formaln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9440" indent="-37692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cena merytoryczna – recenzj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29440" indent="-37692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rozmowa kwalifikacyjn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50920" y="18900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TE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928800" y="285840"/>
            <a:ext cx="397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8000"/>
                </a:solidFill>
                <a:latin typeface="Calibri"/>
              </a:rPr>
              <a:t>Fina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536400" y="1833480"/>
            <a:ext cx="8071200" cy="42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1d4b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1d4b7d"/>
                </a:solidFill>
                <a:latin typeface="Calibri"/>
              </a:rPr>
              <a:t>początkowy </a:t>
            </a:r>
            <a:r>
              <a:rPr b="0" lang="en-GB" sz="2700" spc="-1" strike="noStrike">
                <a:solidFill>
                  <a:srgbClr val="1d4b7d"/>
                </a:solidFill>
                <a:latin typeface="Calibri"/>
              </a:rPr>
              <a:t>endowment </a:t>
            </a:r>
            <a:r>
              <a:rPr b="0" lang="en-GB" sz="2700" spc="-1" strike="noStrike">
                <a:solidFill>
                  <a:srgbClr val="ffc000"/>
                </a:solidFill>
                <a:latin typeface="Calibri"/>
              </a:rPr>
              <a:t>95 </a:t>
            </a:r>
            <a:r>
              <a:rPr b="0" lang="pl-PL" sz="2700" spc="-1" strike="noStrike">
                <a:solidFill>
                  <a:srgbClr val="ffc000"/>
                </a:solidFill>
                <a:latin typeface="Calibri"/>
              </a:rPr>
              <a:t>mln</a:t>
            </a:r>
            <a:r>
              <a:rPr b="0" lang="en-GB" sz="2700" spc="-1" strike="noStrike">
                <a:solidFill>
                  <a:srgbClr val="ffc000"/>
                </a:solidFill>
                <a:latin typeface="Calibri"/>
              </a:rPr>
              <a:t> PLN</a:t>
            </a:r>
            <a:r>
              <a:rPr b="0" lang="en-GB" sz="28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d4b7d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1d4b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1d4b7d"/>
                </a:solidFill>
                <a:latin typeface="Calibri"/>
              </a:rPr>
              <a:t>nasz dotychczasowe inwestycje w rozwój polskiej nauki to ponad </a:t>
            </a:r>
            <a:r>
              <a:rPr b="0" lang="en-GB" sz="2700" spc="-1" strike="noStrike">
                <a:solidFill>
                  <a:srgbClr val="ffc000"/>
                </a:solidFill>
                <a:latin typeface="Calibri"/>
              </a:rPr>
              <a:t>3</a:t>
            </a:r>
            <a:r>
              <a:rPr b="0" lang="pl-PL" sz="2700" spc="-1" strike="noStrike">
                <a:solidFill>
                  <a:srgbClr val="ffc000"/>
                </a:solidFill>
                <a:latin typeface="Calibri"/>
              </a:rPr>
              <a:t>29</a:t>
            </a:r>
            <a:r>
              <a:rPr b="0" lang="en-GB" sz="27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pl-PL" sz="2700" spc="-1" strike="noStrike">
                <a:solidFill>
                  <a:srgbClr val="ffc000"/>
                </a:solidFill>
                <a:latin typeface="Calibri"/>
              </a:rPr>
              <a:t>mln</a:t>
            </a:r>
            <a:r>
              <a:rPr b="0" lang="en-GB" sz="2700" spc="-1" strike="noStrike">
                <a:solidFill>
                  <a:srgbClr val="ffc000"/>
                </a:solidFill>
                <a:latin typeface="Calibri"/>
              </a:rPr>
              <a:t> PLN</a:t>
            </a:r>
            <a:r>
              <a:rPr b="0" lang="pl-PL" sz="2700" spc="-1" strike="noStrike">
                <a:solidFill>
                  <a:srgbClr val="ffc000"/>
                </a:solidFill>
                <a:latin typeface="Calibri"/>
              </a:rPr>
              <a:t> </a:t>
            </a:r>
            <a:r>
              <a:rPr b="0" lang="en-GB" sz="1600" spc="-1" strike="noStrike">
                <a:solidFill>
                  <a:srgbClr val="1d4b7d"/>
                </a:solidFill>
                <a:latin typeface="Calibri"/>
              </a:rPr>
              <a:t>(200</a:t>
            </a:r>
            <a:r>
              <a:rPr b="0" lang="pl-PL" sz="1600" spc="-1" strike="noStrike">
                <a:solidFill>
                  <a:srgbClr val="1d4b7d"/>
                </a:solidFill>
                <a:latin typeface="Calibri"/>
              </a:rPr>
              <a:t>8</a:t>
            </a:r>
            <a:r>
              <a:rPr b="0" lang="en-GB" sz="1600" spc="-1" strike="noStrike">
                <a:solidFill>
                  <a:srgbClr val="1d4b7d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1d4b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1d4b7d"/>
                </a:solidFill>
                <a:latin typeface="Calibri"/>
              </a:rPr>
              <a:t>nasz kapitał żelazny</a:t>
            </a:r>
            <a:r>
              <a:rPr b="0" lang="en-GB" sz="2700" spc="-1" strike="noStrike">
                <a:solidFill>
                  <a:srgbClr val="1d4b7d"/>
                </a:solidFill>
                <a:latin typeface="Calibri"/>
              </a:rPr>
              <a:t> – </a:t>
            </a:r>
            <a:r>
              <a:rPr b="0" lang="pl-PL" sz="2700" spc="-1" strike="noStrike">
                <a:solidFill>
                  <a:srgbClr val="1d4b7d"/>
                </a:solidFill>
                <a:latin typeface="Calibri"/>
              </a:rPr>
              <a:t>ok. </a:t>
            </a:r>
            <a:r>
              <a:rPr b="0" lang="en-GB" sz="2700" spc="-1" strike="noStrike">
                <a:solidFill>
                  <a:srgbClr val="ffc000"/>
                </a:solidFill>
                <a:latin typeface="Calibri"/>
              </a:rPr>
              <a:t>400 </a:t>
            </a:r>
            <a:r>
              <a:rPr b="0" lang="pl-PL" sz="2700" spc="-1" strike="noStrike">
                <a:solidFill>
                  <a:srgbClr val="ffc000"/>
                </a:solidFill>
                <a:latin typeface="Calibri"/>
              </a:rPr>
              <a:t>mln</a:t>
            </a:r>
            <a:r>
              <a:rPr b="0" lang="en-GB" sz="2700" spc="-1" strike="noStrike">
                <a:solidFill>
                  <a:srgbClr val="ffc000"/>
                </a:solidFill>
                <a:latin typeface="Calibri"/>
              </a:rPr>
              <a:t> PLN</a:t>
            </a:r>
            <a:br>
              <a:rPr sz="2700"/>
            </a:br>
            <a:r>
              <a:rPr b="0" lang="pl-PL" sz="1600" spc="-1" strike="noStrike">
                <a:solidFill>
                  <a:srgbClr val="1f4b7b"/>
                </a:solidFill>
                <a:latin typeface="Calibri"/>
              </a:rPr>
              <a:t>(od 2006 roku dwa źródła finansowania: kapitał żelazny i fundusze unijn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d4b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1d4b7d"/>
                </a:solidFill>
                <a:latin typeface="Calibri"/>
              </a:rPr>
              <a:t>budżet na 2009 rok – około </a:t>
            </a:r>
            <a:r>
              <a:rPr b="0" lang="pl-PL" sz="2700" spc="-1" strike="noStrike">
                <a:solidFill>
                  <a:srgbClr val="ffc000"/>
                </a:solidFill>
                <a:latin typeface="Calibri"/>
              </a:rPr>
              <a:t>51 mln</a:t>
            </a:r>
            <a:r>
              <a:rPr b="0" lang="en-GB" sz="2700" spc="-1" strike="noStrike">
                <a:solidFill>
                  <a:srgbClr val="ffc000"/>
                </a:solidFill>
                <a:latin typeface="Calibri"/>
              </a:rPr>
              <a:t> PL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1d4b7d"/>
                </a:solidFill>
                <a:latin typeface="Calibri"/>
              </a:rPr>
              <a:t>	</a:t>
            </a:r>
            <a:r>
              <a:rPr b="0" lang="en-GB" sz="1600" spc="-1" strike="noStrike">
                <a:solidFill>
                  <a:srgbClr val="1d4b7d"/>
                </a:solidFill>
                <a:latin typeface="Calibri"/>
              </a:rPr>
              <a:t>(</a:t>
            </a:r>
            <a:r>
              <a:rPr b="0" lang="pl-PL" sz="1600" spc="-1" strike="noStrike">
                <a:solidFill>
                  <a:srgbClr val="1d4b7d"/>
                </a:solidFill>
                <a:latin typeface="Calibri"/>
              </a:rPr>
              <a:t>w tym około 23 mln PLN ze środków strukturalnych EU – PO IG</a:t>
            </a:r>
            <a:r>
              <a:rPr b="0" lang="en-GB" sz="1600" spc="-1" strike="noStrike">
                <a:solidFill>
                  <a:srgbClr val="1d4b7d"/>
                </a:solidFill>
                <a:latin typeface="Calibri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1f4b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Obraz 5" descr="renata.bilewicz2_po_kompresji.jpg"/>
          <p:cNvPicPr/>
          <p:nvPr/>
        </p:nvPicPr>
        <p:blipFill>
          <a:blip r:embed="rId1"/>
          <a:stretch/>
        </p:blipFill>
        <p:spPr>
          <a:xfrm>
            <a:off x="1566720" y="920880"/>
            <a:ext cx="4724640" cy="389556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2"/>
          <p:cNvSpPr/>
          <p:nvPr/>
        </p:nvSpPr>
        <p:spPr>
          <a:xfrm>
            <a:off x="250920" y="214200"/>
            <a:ext cx="6192720" cy="1214640"/>
          </a:xfrm>
          <a:prstGeom prst="rect">
            <a:avLst/>
          </a:prstGeom>
          <a:solidFill>
            <a:srgbClr val="bbe0e3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060"/>
                </a:solidFill>
                <a:latin typeface="Wunderlich Italic"/>
              </a:rPr>
              <a:t>Program Międzynarodowe Projekty Doktoranck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0" y="4571640"/>
            <a:ext cx="9144000" cy="1500120"/>
          </a:xfrm>
          <a:prstGeom prst="rect">
            <a:avLst/>
          </a:prstGeom>
          <a:gradFill rotWithShape="0">
            <a:gsLst>
              <a:gs pos="0">
                <a:srgbClr val="808080">
                  <a:alpha val="70196"/>
                </a:srgbClr>
              </a:gs>
              <a:gs pos="100000">
                <a:srgbClr val="3b3b3b">
                  <a:alpha val="71372"/>
                </a:srgbClr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Wunderlich Italic"/>
              </a:rPr>
              <a:t>	</a:t>
            </a:r>
            <a:r>
              <a:rPr b="1" lang="pl-PL" sz="2600" spc="-1" strike="noStrike">
                <a:solidFill>
                  <a:srgbClr val="ffffff"/>
                </a:solidFill>
                <a:latin typeface="Wunderlich Italic"/>
              </a:rPr>
              <a:t>Wsparcie projektów realizowanych przez uczestników</a:t>
            </a:r>
            <a:r>
              <a:rPr b="1" lang="pl-PL" sz="2600" spc="-1" strike="noStrike">
                <a:solidFill>
                  <a:srgbClr val="002060"/>
                </a:solidFill>
                <a:latin typeface="Wunderlich Italic"/>
              </a:rPr>
              <a:t> </a:t>
            </a:r>
            <a:r>
              <a:rPr b="1" lang="pl-PL" sz="2600" spc="-1" strike="noStrike">
                <a:solidFill>
                  <a:srgbClr val="ff8000"/>
                </a:solidFill>
                <a:latin typeface="Wunderlich Italic"/>
              </a:rPr>
              <a:t>studiów doktoranckich</a:t>
            </a:r>
            <a:r>
              <a:rPr b="1" lang="pl-PL" sz="2600" spc="-1" strike="noStrike">
                <a:solidFill>
                  <a:srgbClr val="ffffff"/>
                </a:solidFill>
                <a:latin typeface="Wunderlich Italic"/>
              </a:rPr>
              <a:t> prowadzonych we współpracy z jednostką </a:t>
            </a:r>
            <a:r>
              <a:rPr b="1" lang="pl-PL" sz="2800" spc="-1" strike="noStrike">
                <a:solidFill>
                  <a:srgbClr val="ffffff"/>
                </a:solidFill>
                <a:latin typeface="Wunderlich Italic"/>
              </a:rPr>
              <a:t>zagraniczną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27DDF-91A1-4182-BD9C-1D1CCB7B20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1360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dresaci </a:t>
            </a:r>
            <a:r>
              <a:rPr b="0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program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Wniosek składa jednostka naukowa mająca prawo nadawania stopni doktora, która prowadzi lub planuje prowadzić projekty doktoranckie w ramach międzynarodowych konsorcjów naukowych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Rectangle 2"/>
          <p:cNvSpPr/>
          <p:nvPr/>
        </p:nvSpPr>
        <p:spPr>
          <a:xfrm>
            <a:off x="250920" y="4921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060"/>
                </a:solidFill>
                <a:latin typeface="Wunderlich Italic"/>
              </a:rPr>
              <a:t>Program MP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4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84836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Wunderlich Italic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W projekcie musi uczestniczyć co najmniej 10 doktorantów po stronie polskiej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Okres realizacji projektu: 4 - 5 lat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Projekty z dowolnych dziedzin nauki</a:t>
            </a:r>
            <a:r>
              <a:rPr b="1" i="1" lang="pl-PL" sz="24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002060"/>
                </a:solidFill>
                <a:latin typeface="Calibri"/>
              </a:rPr>
              <a:t>(w przypadku porównywalnej wartości projektów preferowane będą te z dziedzin określonych jako bio, info, techno)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250920" y="2779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060"/>
                </a:solidFill>
                <a:latin typeface="Wunderlich Italic"/>
              </a:rPr>
              <a:t>Program MP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060"/>
                </a:solidFill>
                <a:latin typeface="Century Gothic"/>
              </a:rPr>
              <a:t>Program MP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entury Gothic"/>
              </a:rPr>
              <a:t>Finansowani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imienne stypendium:,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3 000 PLN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miesięcznie – dotyczy doktoranta podczas pobytu w Polsce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4 500 PLN 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miesięcznie – dotyczy doktoranta podczas stażu zagranicznego (od 6 do 24 miesięcy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część grantowa –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35 000 PLN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rocznie za każdego doktorant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3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0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060"/>
                </a:solidFill>
                <a:latin typeface="Century Gothic"/>
              </a:rPr>
              <a:t>Program MP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57120" y="1285920"/>
            <a:ext cx="7772400" cy="46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2060"/>
                </a:solidFill>
                <a:uFillTx/>
                <a:latin typeface="Calibri"/>
              </a:rPr>
              <a:t>Finansowanie – część grantowa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wynagrodzenia pracowników naukowyc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amortyzacj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wyposażenie laboratoryj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materiały, surowce, oprogramowan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usługi badawcze i ekspertyz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dostęp do źródeł informacj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ochrona patentow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promocj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wydatki związane z prowadzeniem naboru do zespołu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delegacje krajowe o wymiana międzynarodow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2060"/>
                </a:solidFill>
                <a:latin typeface="Calibri"/>
              </a:rPr>
              <a:t>koszty ogól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9" dur="5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4" dur="500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9" dur="500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4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9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2060"/>
                </a:solidFill>
                <a:latin typeface="Century Gothic"/>
              </a:rPr>
              <a:t>Program MP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plikowani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Formularz: </a:t>
            </a:r>
            <a:r>
              <a:rPr b="1" i="1" lang="pl-PL" sz="2800" spc="-1" strike="noStrike">
                <a:solidFill>
                  <a:srgbClr val="002060"/>
                </a:solidFill>
                <a:latin typeface="Calibri"/>
              </a:rPr>
              <a:t>http://ex.fnp.org.pl/forms/mpd02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Najbliższy termin składania wniosków: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marzec 2010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2060"/>
                </a:solidFill>
                <a:uFillTx/>
                <a:latin typeface="Century Gothic"/>
              </a:rPr>
              <a:t>Koordynator programu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 Gothic"/>
              </a:rPr>
              <a:t>	</a:t>
            </a:r>
            <a:r>
              <a:rPr b="1" lang="pl-PL" sz="2400" spc="-1" strike="noStrike">
                <a:solidFill>
                  <a:srgbClr val="002060"/>
                </a:solidFill>
                <a:latin typeface="Century Gothic"/>
              </a:rPr>
              <a:t>Jakub Witkowsk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entury Gothic"/>
              </a:rPr>
              <a:t>	</a:t>
            </a:r>
            <a:r>
              <a:rPr b="1" lang="pl-PL" sz="2400" spc="-1" strike="noStrike">
                <a:solidFill>
                  <a:srgbClr val="ff8000"/>
                </a:solidFill>
                <a:latin typeface="Century Gothic"/>
              </a:rPr>
              <a:t>tel. (022) 423 14 06; </a:t>
            </a:r>
            <a:r>
              <a:rPr b="1" lang="pl-PL" sz="2400" spc="-1" strike="noStrike">
                <a:solidFill>
                  <a:srgbClr val="002060"/>
                </a:solidFill>
                <a:latin typeface="Century Gothic"/>
              </a:rPr>
              <a:t>jakub.witkowski@fnp.org.pl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1" dur="500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214520" y="1928520"/>
            <a:ext cx="4606920" cy="41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Wunderlich Italic"/>
              </a:rPr>
              <a:t>	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Wsparcie udzielane polskim jednostkom naukowym </a:t>
            </a:r>
            <a:br>
              <a:rPr sz="2800"/>
            </a:b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w celu umożliwienia im </a:t>
            </a: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zatrudnienia wybitnych uczonych z zagranicy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i zaangażowania ich w </a:t>
            </a: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tworzenie zespołów naukowych z udziałem młodych naukowców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214200" y="571680"/>
            <a:ext cx="6193080" cy="1008000"/>
          </a:xfrm>
          <a:prstGeom prst="rect">
            <a:avLst/>
          </a:prstGeom>
          <a:solidFill>
            <a:srgbClr val="bbe0e3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WEL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-6480" y="2279520"/>
            <a:ext cx="2657520" cy="39751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6" descr=""/>
          <p:cNvPicPr/>
          <p:nvPr/>
        </p:nvPicPr>
        <p:blipFill>
          <a:blip r:embed="rId2"/>
          <a:stretch/>
        </p:blipFill>
        <p:spPr>
          <a:xfrm>
            <a:off x="1779480" y="1420920"/>
            <a:ext cx="2414520" cy="3017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D110-CA84-48C6-85BC-D0FDEEBA4F8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1360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dresaci </a:t>
            </a:r>
            <a:r>
              <a:rPr b="0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program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Wniosek składa jednostka naukowa wraz kierownikiem projektu – uczonym z zagranicy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Może być to polski naukowiec, który pracuje za granicą co najmniej 2 lata i zamierza wrócić do Polski lub wrócił nie wcześniej niż 2 lata przed upływem terminu składania wniosków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250920" y="4921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Wel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8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5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B968F-D1DD-4411-BA65-83CE51E7C55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1360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dresaci </a:t>
            </a:r>
            <a:r>
              <a:rPr b="0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programu…cd.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Może być to zagraniczny naukowiec, który posiada co najmniej stopień naukowy doktora i planuje przyjazd do Polski, bądź prowadzi zespół w Polsce nie dłużej niż  5 lat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W skład zespołu badawczego wchodzą młodzi naukowcy : studenci, doktoranci i młodzi doktorzy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250920" y="4921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Wel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9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10920" y="1341360"/>
            <a:ext cx="7848360" cy="44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Wunderlich Italic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l-PL" sz="2800" spc="-1" strike="noStrike">
                <a:solidFill>
                  <a:srgbClr val="ff8000"/>
                </a:solidFill>
                <a:latin typeface="Calibri"/>
              </a:rPr>
              <a:t>W skład zespołu musi wchodzić co najmniej 6 młodych uczonych wybranych w  ramach otwartego naboru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Wunderlich Italic"/>
              </a:rPr>
              <a:t>Okres realizacji projektu:</a:t>
            </a:r>
            <a:r>
              <a:rPr b="0" lang="pl-PL" sz="2800" spc="-1" strike="noStrike">
                <a:solidFill>
                  <a:srgbClr val="002060"/>
                </a:solidFill>
                <a:latin typeface="Wunderlich Italic"/>
              </a:rPr>
              <a:t> 3 - 5 lat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Wunderlich Italic"/>
              </a:rPr>
              <a:t>Projekty realizowane są w dziedzinach z zakresu wskazanego jako </a:t>
            </a:r>
            <a:r>
              <a:rPr b="1" i="1" lang="pl-PL" sz="2400" spc="-1" strike="noStrike">
                <a:solidFill>
                  <a:srgbClr val="002060"/>
                </a:solidFill>
                <a:latin typeface="Wunderlich Italic"/>
              </a:rPr>
              <a:t>bio, info, techn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 algn="ctr">
              <a:lnSpc>
                <a:spcPct val="11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250920" y="2779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Wel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5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3" dur="5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ymbol zastępczy numeru slajdu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9BAF-860F-4B3B-B418-F65B31AF45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57120" y="1428480"/>
            <a:ext cx="78264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2060"/>
                </a:solidFill>
                <a:latin typeface="Calibri"/>
              </a:rPr>
              <a:t>nie finansujemy zadań statutowych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2060"/>
                </a:solidFill>
                <a:latin typeface="Calibri"/>
              </a:rPr>
              <a:t>nie uzupełniamy budżetu placówek naukowych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2060"/>
                </a:solidFill>
                <a:latin typeface="Calibri"/>
              </a:rPr>
              <a:t>nie finansujemy studiów wyższych, studiów doktoranckich i studiów podyplomowych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2060"/>
                </a:solidFill>
                <a:latin typeface="Calibri"/>
              </a:rPr>
              <a:t>nie wspieramy organizacji seminariów, konferencji, szkół letnich i studenckich wypraw naukowych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2060"/>
                </a:solidFill>
                <a:latin typeface="Calibri"/>
              </a:rPr>
              <a:t>nie finansujemy udziału w kursach i wyjazdach szkoleniowych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2060"/>
                </a:solidFill>
                <a:latin typeface="Calibri"/>
              </a:rPr>
              <a:t>publikowania wyników badań, materiałów konferencyjnych i dofinansowywania czasopism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2060"/>
                </a:solidFill>
                <a:latin typeface="Calibri"/>
              </a:rPr>
              <a:t>uzupełniania zasobów bibliotecznych i muzealnych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2060"/>
                </a:solidFill>
                <a:latin typeface="Calibri"/>
              </a:rPr>
              <a:t>działalności o charakterze popularyzatorskim i popularnonaukowym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35880" indent="-335880">
              <a:lnSpc>
                <a:spcPct val="90000"/>
              </a:lnSpc>
              <a:spcBef>
                <a:spcPts val="55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2060"/>
                </a:solidFill>
                <a:latin typeface="Calibri"/>
              </a:rPr>
              <a:t>zakupów wyposażenia o charakterze typowo dydaktycznym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95280" y="4046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Czego FNP nie wspiera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Welcom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entury Gothic"/>
              </a:rPr>
              <a:t>Finansowani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imienne stypendium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dla kierownika zespołu – do 200 do 350 tys. PLN roczni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1 000 PLN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miesięcznie – dotyczy studenta i absolwent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3 000 PLN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miesięcznie – dotyczy doktorant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5 000 PLN 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miesięcznie – dotyczy młodego doktor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część grantowa –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1 mln PLN 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roczni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5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5" dur="500"/>
                                        <p:tgtEl>
                                          <p:spTgt spid="2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Welcom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777240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2060"/>
                </a:solidFill>
                <a:uFillTx/>
                <a:latin typeface="Calibri"/>
              </a:rPr>
              <a:t>Finansowanie – część grantowa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wynagrodzenia pracowników naukowych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amortyzacj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wyposażenie laboratoryj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materiały, surowce, oprogramowani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usługi badawcze i ekspertyzy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dostęp do źródeł informacj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ochrona patentow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promocj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wydatki związane z prowadzeniem naboru do zespołu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delegacje krajowe o wymiana międzynarodow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koszty ogól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4" dur="500"/>
                                        <p:tgtEl>
                                          <p:spTgt spid="2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9" dur="500"/>
                                        <p:tgtEl>
                                          <p:spTgt spid="2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2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2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500"/>
                                        <p:tgtEl>
                                          <p:spTgt spid="2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Welcom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plikowani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2060"/>
                </a:solidFill>
                <a:latin typeface="Calibri"/>
              </a:rPr>
              <a:t>http://ex.fnp.org.pl/forms/welcome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Terminy - konkursy raz w roku: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15 kwietni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2060"/>
                </a:solidFill>
                <a:uFillTx/>
                <a:latin typeface="Calibri"/>
              </a:rPr>
              <a:t>Koordynator programu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Kinga Słomińsk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tel. (022) 424 02 52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e-mail: kinga.slominska@fnp.org.p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500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6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2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069A-06B0-414F-AD16-B0EDC43DD84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85480" y="1312560"/>
            <a:ext cx="864396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2060"/>
                </a:solidFill>
                <a:latin typeface="Wunderlich Italic"/>
              </a:rPr>
              <a:t>Kryteria oceny: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4240" indent="-365400">
              <a:lnSpc>
                <a:spcPct val="90000"/>
              </a:lnSpc>
              <a:spcBef>
                <a:spcPts val="16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Wunderlich Italic"/>
              </a:rPr>
              <a:t>wartość naukowa projektu badawczego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4240" indent="-365400">
              <a:lnSpc>
                <a:spcPct val="90000"/>
              </a:lnSpc>
              <a:spcBef>
                <a:spcPts val="16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Wunderlich Italic"/>
              </a:rPr>
              <a:t>dorobek badawczy lub wdrożeniowy kierownika zespołu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4240" indent="-365400">
              <a:lnSpc>
                <a:spcPct val="90000"/>
              </a:lnSpc>
              <a:spcBef>
                <a:spcPts val="16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Wunderlich Italic"/>
              </a:rPr>
              <a:t>poziom naukowy 5 najważniejszych publikacji lub patentów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4240" indent="-365400">
              <a:lnSpc>
                <a:spcPct val="90000"/>
              </a:lnSpc>
              <a:spcBef>
                <a:spcPts val="16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Wunderlich Italic"/>
              </a:rPr>
              <a:t>dorobek badawczy lub wdrożeniowy jednostki goszczącej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4240" indent="-365400">
              <a:lnSpc>
                <a:spcPct val="90000"/>
              </a:lnSpc>
              <a:spcBef>
                <a:spcPts val="16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Wunderlich Italic"/>
              </a:rPr>
              <a:t>procedury wyboru młodych naukowców do pracy w zespol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4240" indent="-365400">
              <a:lnSpc>
                <a:spcPct val="90000"/>
              </a:lnSpc>
              <a:spcBef>
                <a:spcPts val="16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Wunderlich Italic"/>
              </a:rPr>
              <a:t>zakres współpracy międzynarodowej zespołu w ramach projektu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4240" indent="-365400">
              <a:lnSpc>
                <a:spcPct val="90000"/>
              </a:lnSpc>
              <a:spcBef>
                <a:spcPts val="16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2060"/>
                </a:solidFill>
                <a:latin typeface="Wunderlich Italic"/>
              </a:rPr>
              <a:t>zasadność i efektywność budżetu projektu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Rectangle 2"/>
          <p:cNvSpPr/>
          <p:nvPr/>
        </p:nvSpPr>
        <p:spPr>
          <a:xfrm>
            <a:off x="250920" y="18900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WELCOM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WELCOM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1356840"/>
            <a:ext cx="84582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2" marL="1232280" indent="-4478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2" marL="1232280" indent="-447840">
              <a:lnSpc>
                <a:spcPct val="90000"/>
              </a:lnSpc>
              <a:spcBef>
                <a:spcPts val="2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Etapy oceny 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680120" indent="-447840">
              <a:lnSpc>
                <a:spcPct val="100000"/>
              </a:lnSpc>
              <a:spcBef>
                <a:spcPts val="2100"/>
              </a:spcBef>
              <a:buClr>
                <a:srgbClr val="00206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ocena formaln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680120" indent="-447840">
              <a:lnSpc>
                <a:spcPct val="100000"/>
              </a:lnSpc>
              <a:spcBef>
                <a:spcPts val="2100"/>
              </a:spcBef>
              <a:buClr>
                <a:srgbClr val="00206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ocena merytoryczna  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- recenzje pisemn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3" marL="1680120" indent="-447840">
              <a:lnSpc>
                <a:spcPct val="100000"/>
              </a:lnSpc>
              <a:spcBef>
                <a:spcPts val="1800"/>
              </a:spcBef>
              <a:buClr>
                <a:srgbClr val="002060"/>
              </a:buClr>
              <a:buFont typeface="Calibri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rozmowa kwalifikacyjna </a:t>
            </a:r>
            <a:br>
              <a:rPr sz="2800"/>
            </a:br>
            <a:r>
              <a:rPr b="0" i="1" lang="pl-PL" sz="2400" spc="-1" strike="noStrike">
                <a:solidFill>
                  <a:srgbClr val="002060"/>
                </a:solidFill>
                <a:latin typeface="Calibri"/>
              </a:rPr>
              <a:t>(w ostatnim miesiącu oceny)</a:t>
            </a: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 oraz wizyta w jednostce, w której projekt ma być realizowan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680120" indent="-44784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109600" indent="-373320">
              <a:lnSpc>
                <a:spcPct val="70000"/>
              </a:lnSpc>
              <a:spcBef>
                <a:spcPts val="134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Symbol zastępczy numeru slajdu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BB13-E801-4D7F-9A32-6688F99DD96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8976-D278-46BC-9571-078E7CD814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214200" y="1214280"/>
            <a:ext cx="81360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dresaci </a:t>
            </a:r>
            <a:r>
              <a:rPr b="0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program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studenci (po 3 roku studiów)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absolwenci (do 3 lat od ukończenia studiów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doktoranc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wniosek składa młody naukowiec (kierownik projektu) wraz z jednostką naukową, w której projekt będzie realizowany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pl-PL" sz="2800" spc="-1" strike="noStrike">
                <a:solidFill>
                  <a:srgbClr val="002060"/>
                </a:solidFill>
                <a:latin typeface="Calibri"/>
              </a:rPr>
              <a:t>Celem programu jest wspieranie studentów, absolwentów i doktorantów realizujących projekty mające zastosowanie w gospodarce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214200" y="214200"/>
            <a:ext cx="6193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Ven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4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1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2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Ven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entury Gothic"/>
              </a:rPr>
              <a:t>Finansowanie i czas realizacji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imienne stypendium dla kierownika projektu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1 500 PLN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miesięcznie – dotyczy studenta i absolwent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lub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3 000 PLN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miesięcznie – dotyczy doktorant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część grantowa – 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do 35 000 PLN</a:t>
            </a: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 roczni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Czas trwania projektu: 1-3 lat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500" fill="hold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8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5" dur="500"/>
                                        <p:tgtEl>
                                          <p:spTgt spid="2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85840" y="21420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Ven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57120" y="1071720"/>
            <a:ext cx="777240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2060"/>
                </a:solidFill>
                <a:uFillTx/>
                <a:latin typeface="Calibri"/>
              </a:rPr>
              <a:t>Wymagane dokumenty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opis projektu badawczego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opis potencjału komercyjnego projektu , jego zastosowania w gospodarce wraz z planowanymi rezultatami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życiorys kandydata (dorobek badawczy i wdrożeniowy, publikacje, staże itd.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opis dwóch najważniejszych osiągnięć naukowych kandydata: np. kopie dwóch najważniejszych publikacji lub zgłoszeń patentowych (w języku oryginalnym), opisy wdrożeń, sukcesy na międzynarodowych konkursach, wygłoszone referaty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życiorys opiekuna naukowego projektu ze wskazaniem na dorobek badawczy i wdrożeniowy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list rekomendacyjny wystawiony przez opiekuna naukowego projektu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list intencyjny organizacji/instytucji będącej ewentualnym partnerem w realizacji projektu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określający zakres partnerstwa (załącznik fakultatywny)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plan akcji promocyjnej realizowanego projektu, w szczególności w środowisku biznesowym 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2060"/>
                </a:solidFill>
                <a:latin typeface="Calibri"/>
              </a:rPr>
              <a:t>harmonogram realizacji projektu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1226" dur="indefinite" restart="never" nodeType="tmRoot">
          <p:childTnLst>
            <p:seq>
              <p:cTn id="1227" dur="indefinite" nodeType="mainSeq">
                <p:childTnLst>
                  <p:par>
                    <p:cTn id="1228" fill="hold">
                      <p:stCondLst>
                        <p:cond delay="0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4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7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9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4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500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4" dur="500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9" dur="500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4" dur="500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2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Ven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9280" y="119664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plikowani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800" spc="-1" strike="noStrike">
                <a:solidFill>
                  <a:srgbClr val="002060"/>
                </a:solidFill>
                <a:latin typeface="Calibri"/>
              </a:rPr>
              <a:t>http://ex.fnp.org.pl/forms/ventures/ 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Najbliższy konkurs:</a:t>
            </a:r>
            <a:r>
              <a:rPr b="1" lang="pl-PL" sz="2400" spc="-1" strike="noStrike">
                <a:solidFill>
                  <a:srgbClr val="ff8000"/>
                </a:solidFill>
                <a:latin typeface="Calibri"/>
              </a:rPr>
              <a:t> 31 X 2009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002060"/>
                </a:solidFill>
                <a:uFillTx/>
                <a:latin typeface="Calibri"/>
              </a:rPr>
              <a:t>Informacji o programie udziela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Zespół ds. Programów Finansowanych z Funduszy Strukturalnych:</a:t>
            </a:r>
            <a:br>
              <a:rPr sz="2000"/>
            </a:b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tel. (+48 22) 423 14 06, 424 02 25, 424 03 06 lub 424 02 52,</a:t>
            </a:r>
            <a:br>
              <a:rPr sz="2000"/>
            </a:b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fundusze@fnp.org.pl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0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9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7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2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5" dur="500"/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3" dur="5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5E0D4-D0E8-458E-A7B1-AC5E2E95E9D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Calibri"/>
              </a:rPr>
              <a:t>    </a:t>
            </a:r>
            <a:r>
              <a:rPr b="1" lang="pl-PL" sz="2000" spc="-1" strike="noStrike">
                <a:solidFill>
                  <a:srgbClr val="002060"/>
                </a:solidFill>
                <a:latin typeface="Calibri"/>
              </a:rPr>
              <a:t>Kryteria oceny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wartości naukowe i innowacyjne przedstawionego projektu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dorobek badawczy i wdrożeniowy głównego wykonawcy i dorobek badawczy i wdrożeniowy opiekuna naukoweg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otencjał komercyjny projektu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jakość akcji promocyjnej realizowanych badań, prowadzonej w szczególności w środowisku biznesowym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zasadność i efektywność budżetu projektu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2060"/>
                </a:solidFill>
                <a:latin typeface="Calibri"/>
              </a:rPr>
              <a:t>Etapy oceny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cena formaln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ocena merytoryczna – recenzj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838080" indent="-380880">
              <a:lnSpc>
                <a:spcPct val="80000"/>
              </a:lnSpc>
              <a:spcBef>
                <a:spcPts val="13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rozmowa kwalifikacyjn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250920" y="18900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Ven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57120" y="213840"/>
            <a:ext cx="61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8000"/>
                </a:solidFill>
                <a:latin typeface="Calibri"/>
              </a:rPr>
              <a:t>Programy finansowane z kapitału żelaznego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14240" y="1428840"/>
            <a:ext cx="77724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2060"/>
                </a:solidFill>
                <a:latin typeface="Calibri"/>
              </a:rPr>
              <a:t>Stypendia i subsydia: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rogram STAR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rogram KOLUMB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rogram HOMING/POWROTY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rogram FOCU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rogram MISTRZ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Stypendia konferencyjn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2060"/>
                </a:solidFill>
                <a:latin typeface="Calibri"/>
              </a:rPr>
              <a:t>Nagrody: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Nagroda FNP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Nagroda COPERNICUS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Polskie Honorowe Stypendium Humboldt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2060"/>
                </a:solidFill>
                <a:latin typeface="Calibri"/>
              </a:rPr>
              <a:t>Inne: </a:t>
            </a: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Monografie, Idee dla Polski, Exterius…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4"/>
          <p:cNvSpPr/>
          <p:nvPr/>
        </p:nvSpPr>
        <p:spPr>
          <a:xfrm>
            <a:off x="838080" y="2209680"/>
            <a:ext cx="403884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Fundacja na rzecz Nauki Polskie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ul.</a:t>
            </a: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 Gra</a:t>
            </a: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ż</a:t>
            </a: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yny </a:t>
            </a: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02-548 Wars</a:t>
            </a: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z</a:t>
            </a:r>
            <a:r>
              <a:rPr b="1" lang="en-GB" sz="1800" spc="-1" strike="noStrike">
                <a:solidFill>
                  <a:srgbClr val="002060"/>
                </a:solidFill>
                <a:latin typeface="Arial"/>
              </a:rPr>
              <a:t>aw</a:t>
            </a: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Arial"/>
              </a:rPr>
              <a:t>Tel. </a:t>
            </a: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+48 22 845 95 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Fax +48 22 845 95 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2060"/>
                </a:solidFill>
                <a:latin typeface="Arial"/>
              </a:rPr>
              <a:t>adam.zielinski@fnp.org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8000"/>
                </a:solidFill>
                <a:latin typeface="Arial"/>
              </a:rPr>
              <a:t>www.fnp.org.pl</a:t>
            </a:r>
            <a:r>
              <a:rPr b="0" lang="en-GB" sz="1800" spc="-1" strike="noStrike">
                <a:solidFill>
                  <a:srgbClr val="ff8000"/>
                </a:solidFill>
                <a:latin typeface="Arial Rounded MT Bol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5" descr="siedziba FNP"/>
          <p:cNvPicPr/>
          <p:nvPr/>
        </p:nvPicPr>
        <p:blipFill>
          <a:blip r:embed="rId1"/>
          <a:stretch/>
        </p:blipFill>
        <p:spPr>
          <a:xfrm>
            <a:off x="5105520" y="2209680"/>
            <a:ext cx="3098520" cy="29210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6"/>
          <p:cNvSpPr/>
          <p:nvPr/>
        </p:nvSpPr>
        <p:spPr>
          <a:xfrm>
            <a:off x="324000" y="573408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8000"/>
                </a:solidFill>
                <a:latin typeface="Arial Rounded MT Bold"/>
              </a:rPr>
              <a:t>Dziękuję bardzo za uwagę</a:t>
            </a:r>
            <a:r>
              <a:rPr b="1" lang="pl-PL" sz="1800" spc="-1" strike="noStrike">
                <a:solidFill>
                  <a:srgbClr val="ff8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6306-C0FD-4617-8015-33EFEF304D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9280" y="1628640"/>
            <a:ext cx="813600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Adresaci </a:t>
            </a:r>
            <a:r>
              <a:rPr b="0" lang="pl-PL" sz="2800" spc="-1" strike="noStrike" u="sng">
                <a:solidFill>
                  <a:srgbClr val="002060"/>
                </a:solidFill>
                <a:uFillTx/>
                <a:latin typeface="Calibri"/>
              </a:rPr>
              <a:t>program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młodzi polscy naukowcy u progu kariery naukowej, posiadający już sukcesy w swojej dziedzinie udokumentowane publikacjami w uznanych periodykach naukowych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2060"/>
                </a:solidFill>
                <a:latin typeface="Calibri"/>
              </a:rPr>
              <a:t>wymagane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wiek – nie więcej niż 30 lat* w chwili składania wniosku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zatrudnienie lub status doktoranta w polskiej instytucji naukowej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(w sensie formalnym aplikuje instytucja zatrudniająca/kształcąca kandydata)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250920" y="49212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ST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Symbol zastępczy numeru slajdu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C6FF8-196D-4685-A2C3-105AAF53EB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250920" y="189000"/>
            <a:ext cx="6192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8000"/>
                </a:solidFill>
                <a:latin typeface="Calibri"/>
              </a:rPr>
              <a:t>Program STAR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00040" y="1571400"/>
            <a:ext cx="7996320" cy="44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72000" anchor="t">
            <a:normAutofit/>
          </a:bodyPr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Cele programu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nagrodzenie dotychczasowych osiągnięć młodych naukowców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zachęcenie do kontynuowania pracy naukowej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21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2060"/>
                </a:solidFill>
                <a:latin typeface="Calibri"/>
              </a:rPr>
              <a:t>umożliwienie skoncentrowania się na pracy naukowej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8000"/>
                </a:solidFill>
                <a:latin typeface="Calibri"/>
              </a:rPr>
              <a:t>Ponad 100 stypendiów rocznie!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3T08:05:26Z</dcterms:created>
  <dc:creator>Jakub Wojnarowski</dc:creator>
  <dc:description/>
  <dc:language>en-US</dc:language>
  <cp:lastModifiedBy>Adam Zieliński</cp:lastModifiedBy>
  <dcterms:modified xsi:type="dcterms:W3CDTF">2009-06-03T06:50:09Z</dcterms:modified>
  <cp:revision>689</cp:revision>
  <dc:subject/>
  <dc:title>Programy stypendialne  Fundacji na rzecz Nauki Polskiej</dc:title>
</cp:coreProperties>
</file>