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20A57-27E9-4A0C-B94D-7728B5C236A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E95F0-8FA3-4700-9738-6E60746A79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B6A2-FD8E-4522-9807-6E4D9CC20B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8530-8935-4F0F-A0BD-2FFC0A552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CA6F-B3C0-4AF2-A74C-402067ED2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5088-BDBF-4E14-8436-D8ED80C17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154-1531-4D8E-A5F2-D88CE941D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8D3C-F8A2-444B-93D7-69CAE4E27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9D2D-3872-4D58-BE26-4FA5B306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B69D-DC5F-43F0-9941-4CC399648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BB9-6ABF-4174-ADEE-57E70246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A7A2-8C0B-4219-AB0A-1EB2699C3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DEF-46CC-4B07-BEB6-E08BE605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2E79C-448B-453D-AB1E-10FCF008B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B8CF-ED80-4622-849B-D0781EDA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4E8-1E1F-45DB-9227-7A1E5CD2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D860-CBF6-4AF4-8D56-639CD31F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9173-FB10-475A-ACD9-7062895C4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CDFB-B06E-47D2-8FFC-D5A82700A7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3200" spc="-1" strike="noStrike">
                <a:solidFill>
                  <a:srgbClr val="ff8000"/>
                </a:solidFill>
                <a:latin typeface="Century Gothic"/>
              </a:rPr>
              <a:t> </a:t>
            </a: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Oferta FNP dla (byłych) stypendystów programu KOLUMB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440" y="4786200"/>
            <a:ext cx="7388280" cy="1214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8000"/>
                </a:solidFill>
                <a:latin typeface="Calibri"/>
              </a:rPr>
              <a:t>Adam Zielińsk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Koordynator Programów Międzynarodowy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Fundacja na rzecz Nauki Polskiej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571760" y="623736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Calibri"/>
              </a:rPr>
              <a:t>Jabłonna, 30 maja 2009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stypendialn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36 000 PLN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rocznie dla laureata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koło 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46 000 PLN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rocznie</a:t>
            </a:r>
            <a:br>
              <a:rPr sz="2800"/>
            </a:b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(wysokość grantu uzależniona od środków uzyskanych przez FNP z mechanizmu 1%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21428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zakup wyposażenia badawczego, aparatury naukowo-badawcz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zakup oprogramowania komputerow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zakup materiałów koniecznych do przeprowadzenia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zakup publikacji naukow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konserwacja i naprawy aparatury, maszyn, instrument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tłumaczenia i inne usługi zewnętrzn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publikacja wyników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podróże krajow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wymiana naukowa do zagranicznego ośrodka badawczego, trwająca d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sześciu tygodni rocznie oraz wizyty badaczy z ośrodka zagranicznego 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placówce badawczej Laurea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inne uzasadnione koszty bezpośrednio związane z prowadzeniem badań naukowych w ramach realizacji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oprzez formularz elektroniczny dostępny na stronie www.fnp.org.pl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 składania wniosków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0 kwiet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agdalena Wa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45; magdalena.wach@fnp.org.p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16A7-6B02-4D08-92EC-1544C0B4968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robek badawczy kandydata, w szczególności ten uzyskany podczas pobytu za granic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jekt badawcz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kontynuacji współpracy z ośrodkiem zagranicznym, z którego powraca kandydat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finansowy wykorzystania subsydiu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mocniczo: ranga ośrodka z którego kandydata wraca do Polski oraz przyjmując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Etapy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merytoryczna – recenzja pisem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ozmowa kwalifikacyjna (panel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CB7CA-9B05-4F2F-B105-3B6098D5A2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wraz kierownikiem projektu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Kierownikiem projektu może być uczony, którzy zamierzają zatrudnić w  swoim zespole młodych uczonych : studentów, doktorantów i młodych doktor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W skład zespołu musi wchodzić co najmniej 6 młodych uczonych wybranych w  ramach otwartego nabo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 2 - 4 la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Projekty realizowane są w dziedzinach z zakresu wskazanego jako </a:t>
            </a:r>
            <a:r>
              <a:rPr b="1" i="1" lang="pl-PL" sz="2400" spc="-1" strike="noStrike">
                <a:solidFill>
                  <a:srgbClr val="002060"/>
                </a:solidFill>
                <a:latin typeface="Wunderlich Italic"/>
              </a:rPr>
              <a:t>bio, info, tech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</a:t>
            </a:r>
            <a:r>
              <a:rPr b="1" lang="pl-PL" sz="3600" spc="-1" strike="noStrike">
                <a:solidFill>
                  <a:srgbClr val="ff8000"/>
                </a:solidFill>
                <a:latin typeface="Wunderlich Italic"/>
              </a:rPr>
              <a:t>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młodego dok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5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 za każdego doktoranta oraz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rocznie za każdego postdoc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nagrodzenia pracowników naukowych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amortyzacj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posażenie laboratoryjne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materiały, surowce, oprogramowanie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usługi badawcze i ekspertyzy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dostęp do źródeł informacji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ochrona patentow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datki związane z prowadzeniem naboru do zespołu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delegacje krajowe i wymiana międzynarodow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Formularz wniosków 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team02/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- konkursy dwa razy w rok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6 marca i 30 wrześ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wota środków przeznaczonych na konkurs 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5 500 000 PL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3F1F5-DBC8-4087-83B6-5E8646D436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robek badawczy lub wdrożeniowy kierownika zespołu (ostatnie 4 lata)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artości naukowe lub innowacyjne przedstawionych programów w zespole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sadność planowanej liczebności zespołu względem przedstawionego programu badawcz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cedury wyboru młodych naukowców do pracy w zespole,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kres współpracy międzynarodowej zespołu w ramach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sadność i efektywność budżetu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Etapy oceny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merytoryczna – recenzj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ozmowa kwalifikacyj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85920" y="285840"/>
            <a:ext cx="335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O Fund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826920" y="1844640"/>
            <a:ext cx="7980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działamy nieprzerwanie od 1991 ro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środki z kapitału żelaznego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 </a:t>
            </a: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oraz 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prowadzimy działalność 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non-prof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jesteśmy niezależni i elastycz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status organizacji pożytku publiczne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nasze motto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8000"/>
                </a:solidFill>
                <a:latin typeface="Calibri"/>
              </a:rPr>
              <a:t>Wspierać tylko najlepszych, aby mogli stać się jeszcze lepsi</a:t>
            </a:r>
            <a:r>
              <a:rPr b="1" i="1" lang="en-GB" sz="2800" spc="-1" strike="noStrike">
                <a:solidFill>
                  <a:srgbClr val="ff8000"/>
                </a:solidFill>
                <a:latin typeface="Calibri"/>
              </a:rPr>
              <a:t>!</a:t>
            </a:r>
            <a:r>
              <a:rPr b="0" lang="en-GB" sz="3200" spc="-1" strike="noStrike">
                <a:solidFill>
                  <a:srgbClr val="ff8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8000"/>
                </a:solidFill>
                <a:latin typeface="Century Gothic"/>
              </a:rPr>
              <a:t>Program Team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Beata Frączak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tel. (022) 424 02 26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e-mail: beata.fraczak@fnp.org.p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8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01A-EB35-4D98-90BE-59A792589B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bitni młodzi naukowcy pragnący stworzyć własny zespół badawczy i laboratori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magani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ktorat (uzyskany nie później niż 9 lat przed startem w konkursi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trudnienie w polskiej jednostce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ogram dostępny jest dla zagranicznych naukowców a także dla polskich naukowców pracujących zagranicą – warunkiem udziału jest kontynuowanie pracy naukowej w Pols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19FD-B84D-44E7-AF7C-0A2595109A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642920" y="1785600"/>
            <a:ext cx="392436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20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chęcenie najlepszych młodych naukowców do stworzenia własnego zespołu i podjęcia pracy naukowej w Polsce, w wybranych obszarach badań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2" name="Picture 6" descr="C:\Users\fraczak\Desktop\ZDJĘCIA_ULOTKA\ZDJĘCIA_DO_WYKORZYSTANIA\ZDJĘCIA_DO_ULOTKI\barbara.klajnert1_po_kompresji.jpg"/>
          <p:cNvPicPr/>
          <p:nvPr/>
        </p:nvPicPr>
        <p:blipFill>
          <a:blip r:embed="rId1"/>
          <a:stretch/>
        </p:blipFill>
        <p:spPr>
          <a:xfrm>
            <a:off x="353880" y="1779480"/>
            <a:ext cx="4194360" cy="408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71320" y="150012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okres realizacji projektu: 3 + 2 lata</a:t>
            </a:r>
            <a:br>
              <a:rPr sz="2400"/>
            </a:b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(przedłużenie terminu realizacji projektu o dwa lata uzależnione od uzyskania dodatkowego finansowani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konkursy dotyczą wybranych obszarów badań, definiowanych corocznie przez Zarząd FNP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nacisk na interdyscyplinarność badań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8000"/>
                </a:solidFill>
                <a:latin typeface="Calibri"/>
              </a:rPr>
              <a:t>FOCUS 2009 – Badania nad językową kategoryzacją świat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stypendialn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6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dla laureata program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stypendia dla członków zespołu laure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00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grant aparaturowy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dla laureatów programu 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(pula określana corocznie przez Zarząd FNP – w 2009 r </a:t>
            </a: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1,5 mln PLN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zakupy aparatury, materiałów niezbędnych do prowadzenia badań, książek, czasopism itp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podróży służbowych, wymiany osobowej z zagranic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konferencj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nagrodzenia za prace pomocnicze i techniczne wykonywane na podstawie umów cywilnoprawn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administracyjne i techniczne, w tym na pozyskiwania dodatkowych źródeł finansowa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oprzez formularz elektroniczny dostępny na stronie www.fnp.org.pl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 składania wniosków: 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15 X 2009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Tadeusz Pacholi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10; tadeusz.pacholik@fnp.org.p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08118-BF79-434B-B297-F4783C96F0E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aukowa aktywność kandydata i jego dotychczasowe osiągnięc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tencjał kandydata i szansa odniesienia przez niego znaczącego sukcesu w dającej się przewidzieć przyszłośc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artość wskazanych przez kandydata osiągnięć naukow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naczenie przedkładanego zamierzenia badawczego dla rozwoju dyscypliny wspieranej w ramach konkursu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ryginalność tematyki badawczej, tez projektu oraz zaproponowanej metodyki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tencjał zespołu badawczego kandydata oraz liczba uzyskanych przez niego grantów krajowych i zagraniczn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jakość wsparcia oferowanego przez jednostkę zapraszając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Etapy oceny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/ocena merytoryczna/rozmowa kwalifikacyj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datkowy konkurs o grant aparaturow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214520" y="1928520"/>
            <a:ext cx="46069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sparcie udzielane polskim jednostkom naukowym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 celu umożliwienia im 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trudnienia wybitnych uczonych z zagranicy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i zaangażowania ich w 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worzenie zespołów naukowych z udziałem młodych naukowc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214200" y="571680"/>
            <a:ext cx="6193080" cy="1008000"/>
          </a:xfrm>
          <a:prstGeom prst="rect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-6480" y="2279520"/>
            <a:ext cx="2657520" cy="3975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241452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2EA0-5027-4FFE-8479-C6D7F43DEF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wraz kierownikiem projektu – uczonym z zagranic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Może być to polski naukowiec, który pracuje za granicą co najmniej 2 lata i zamierza wrócić do Polski lub wrócił nie wcześniej niż 2 lata przed upływem terminu składania wniosków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457200" y="27468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Zasady finansow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468360" y="1773360"/>
            <a:ext cx="82296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Wspieramy badania we wszystkich dziedzinach:</a:t>
            </a:r>
            <a:r>
              <a:rPr b="0" lang="en-GB" sz="2000" spc="-1" strike="noStrike">
                <a:solidFill>
                  <a:srgbClr val="1d4b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ścis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przyrodnicze i med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techni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humanistyczne i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Wspieramy indywidualnych naukowców</a:t>
            </a:r>
            <a:r>
              <a:rPr b="0" lang="en-GB" sz="2000" spc="-1" strike="noStrike">
                <a:solidFill>
                  <a:srgbClr val="1d4b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stype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g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subsy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Wsparcie wyłącznie w drodze konkur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Calibri"/>
              </a:rPr>
              <a:t>Przyznajemy ponad 600 stypendiów roczn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2958-C837-4A75-8953-810153DB28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…cd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Może być to zagraniczny naukowiec, który posiada co najmniej stopień naukowy doktora i planuje przyjazd do Polski, bądź prowadzi zespół w Polsce nie dłużej niż  5 la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 skład zespołu badawczego wchodzą młodzi naukowcy : studenci, doktoranci i młodzi doktorz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4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W skład zespołu musi wchodzić co najmniej 6 młodych uczonych wybranych w  ramach otwartego nabo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 3 - 5 la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Projekty realizowane są w dziedzinach z zakresu wskazanego jako </a:t>
            </a:r>
            <a:r>
              <a:rPr b="1" i="1" lang="pl-PL" sz="2400" spc="-1" strike="noStrike">
                <a:solidFill>
                  <a:srgbClr val="002060"/>
                </a:solidFill>
                <a:latin typeface="Wunderlich Italic"/>
              </a:rPr>
              <a:t>bio, info, tech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la kierownika zespołu – do 200 do 350 tys. PLN 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młodego dok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mln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nagrodzenia pracowników naukowych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amortyzacj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posażenie laboratoryjne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materiały, surowce, oprogramowanie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usługi badawcze i ekspertyzy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dostęp do źródeł informacji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ochrona patentowa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datki związane z prowadzeniem naboru do zespołu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delegacje krajowe o wymiana międzynarodowa,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4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4" dur="5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9" dur="5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4" dur="5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500"/>
                                        <p:tgtEl>
                                          <p:spTgt spid="1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12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Formularz wniosków :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welcom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- konkursy raz w roku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5 kwiet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wota środków przeznaczonych na konkurs 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23 000 000 PL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3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5" dur="5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4552-1801-4C63-AF79-9A0C701351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85480" y="1312560"/>
            <a:ext cx="86439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Wunderlich Italic"/>
              </a:rPr>
              <a:t>Kryteria oceny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wartość naukowa projektu badawczeg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dorobek badawczy lub wdrożeniowy kierownika zespołu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poziom naukowy 5 najważniejszych publikacji lub patentów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dorobek badawczy lub wdrożeniowy jednostki goszczącej,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procedury wyboru młodych naukowców do pracy w zespole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zakres współpracy międzynarodowej zespołu w ramach projektu,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zasadność i efektywność budżetu projektu.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-360" y="1356840"/>
            <a:ext cx="8458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232280" indent="-4478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32280" indent="-4478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Etapy oceny 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cena merytoryczna  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- recenzje pisem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rozmowa kwalifikacyjna </a:t>
            </a:r>
            <a:br>
              <a:rPr sz="2800"/>
            </a:br>
            <a:r>
              <a:rPr b="0" i="1" lang="pl-PL" sz="2400" spc="-1" strike="noStrike">
                <a:solidFill>
                  <a:srgbClr val="002060"/>
                </a:solidFill>
                <a:latin typeface="Calibri"/>
              </a:rPr>
              <a:t>(w ostatnim miesiącu oceny)</a:t>
            </a: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 oraz wizyta w jednostce, w której projekt ma być realizowan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109600" indent="-373320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Symbol zastępczy numeru slajd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0A1B-3818-4AD2-82A1-46A1763C4B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95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Kinga Słomińsk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tel. (022) 424 02 52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e-mail: kinga.slominska@fnp.org.p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838080" y="2209680"/>
            <a:ext cx="40388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Fundacja na rzecz Nauki Polski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ul.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Gra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ż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yny 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02-548 Wars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z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aw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Tel.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+48 22 845 95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Fax +48 22 845 95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adam.zielinski@fnp.org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8000"/>
                </a:solidFill>
                <a:latin typeface="Arial"/>
              </a:rPr>
              <a:t>www.fnp.org.pl</a:t>
            </a:r>
            <a:r>
              <a:rPr b="0" lang="en-GB" sz="1800" spc="-1" strike="noStrike">
                <a:solidFill>
                  <a:srgbClr val="ff8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siedziba FNP"/>
          <p:cNvPicPr/>
          <p:nvPr/>
        </p:nvPicPr>
        <p:blipFill>
          <a:blip r:embed="rId1"/>
          <a:stretch/>
        </p:blipFill>
        <p:spPr>
          <a:xfrm>
            <a:off x="5105520" y="2209680"/>
            <a:ext cx="3098520" cy="29210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324000" y="57340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Arial Rounded MT Bold"/>
              </a:rPr>
              <a:t>Dziękuję bardzo za uwagę</a:t>
            </a: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928800" y="285840"/>
            <a:ext cx="39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Fin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536400" y="1833480"/>
            <a:ext cx="80712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początkowy 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endowment 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95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d4b7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nasz dotychczasowe inwestycje w rozwój polskiej nauki to ponad 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29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(200</a:t>
            </a:r>
            <a:r>
              <a:rPr b="0" lang="pl-PL" sz="1600" spc="-1" strike="noStrike">
                <a:solidFill>
                  <a:srgbClr val="1d4b7d"/>
                </a:solidFill>
                <a:latin typeface="Calibri"/>
              </a:rPr>
              <a:t>8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nasz kapitał żelazny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 – </a:t>
            </a: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ok. 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400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</a:t>
            </a:r>
            <a:br>
              <a:rPr sz="2700"/>
            </a:br>
            <a:r>
              <a:rPr b="0" lang="pl-PL" sz="1600" spc="-1" strike="noStrike">
                <a:solidFill>
                  <a:srgbClr val="1f4b7b"/>
                </a:solidFill>
                <a:latin typeface="Calibri"/>
              </a:rPr>
              <a:t>(od 2006 roku dwa źródła finansowania: kapitał żelazny i fundusze unij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budżet na 2009 rok – około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51 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(</a:t>
            </a:r>
            <a:r>
              <a:rPr b="0" lang="pl-PL" sz="1600" spc="-1" strike="noStrike">
                <a:solidFill>
                  <a:srgbClr val="1d4b7d"/>
                </a:solidFill>
                <a:latin typeface="Calibri"/>
              </a:rPr>
              <a:t>w tym około 23 mln PLN ze środków strukturalnych EU – PO IG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b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Programy Fundacji dla byłych „Kolumbów”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Grant wspomagając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Homing/Powroty (EO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FOCU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Team (PO I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rogram Welcome (PO IG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4488-C2B9-4F73-B5BD-DB0BCE968D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o grant mogą ubiegać się laureaci programu Kolumb po zakończeniu stypendium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grant wspomagający to 40 000 PLN do wykorzystania n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zakup aparatury naukowej, wydawnictw i sprzętu ułatwiającego pracę badawcz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na rozwijanie współpracy międzynarodowej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Małgorzata Bury, tel. +48 22 845 95 37, malgorzata.bury@fnp.org.p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Grant wspomagają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D90E5-9238-4AE6-B07A-E5CEDBEF9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łodzi polscy naukowcy pragnący wrócić do Polski po dłuższym pobycie zagraniczny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aureatem programu może zostać osoba, która wróciła do Polski w ciągu ostatnich 12 miesięcy lub planuje to zrobić do 6 miesięcy po upływie terminu składania wniosków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magan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ktorat (uzyskany nie później niż 4 lata przed przystąpieniem do konkursu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trudnienie (promesa zatrudnienia) w polskiej instytucji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09B5-1C5B-47BF-B633-59E727F718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42920" y="1785600"/>
            <a:ext cx="392436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20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chęcenie najlepszych młodych polskich naukowców do powrotu do Polski oraz zdynamizowanie ich karier m.in. poprzez wsparcie nawiązanej już współpracy z zagranic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8" name="Picture 6" descr="C:\Users\fraczak\Desktop\ZDJĘCIA_ULOTKA\ZDJĘCIA_DO_WYKORZYSTANIA\ZDJĘCIA_DO_ULOTKI\barbara.klajnert1_po_kompresji.jpg"/>
          <p:cNvPicPr/>
          <p:nvPr/>
        </p:nvPicPr>
        <p:blipFill>
          <a:blip r:embed="rId1"/>
          <a:stretch/>
        </p:blipFill>
        <p:spPr>
          <a:xfrm>
            <a:off x="353880" y="1779480"/>
            <a:ext cx="4194360" cy="40849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71320" y="164304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2 + 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ożliwość przedłużenia finansowania na 3 rok i uzyskania dodatkowych środków od FNP (ale pod warunkiem uzyskania finansowania także z innego źródła)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ojekty realizowane są we wszystkich dziedzinach nauki, w tym także w naukach społecznych </a:t>
            </a:r>
            <a:br>
              <a:rPr sz="2400"/>
            </a:b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i humanistycznych</a:t>
            </a:r>
            <a:r>
              <a:rPr b="1" i="1" lang="pl-PL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8:05:26Z</dcterms:created>
  <dc:creator>Jakub Wojnarowski</dc:creator>
  <dc:description/>
  <dc:language>en-US</dc:language>
  <cp:lastModifiedBy>Adam Zieliński</cp:lastModifiedBy>
  <dcterms:modified xsi:type="dcterms:W3CDTF">2009-05-30T13:46:53Z</dcterms:modified>
  <cp:revision>653</cp:revision>
  <dc:subject/>
  <dc:title>Programy stypendialne  Fundacji na rzecz Nauki Polskiej</dc:title>
</cp:coreProperties>
</file>